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E80B-37E6-4511-A805-6BE255CFF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741C-2C08-4AD7-9201-F38E22864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4DBC-F96F-446E-81F5-A72191F7C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FFB7-1E00-4950-937C-02A11A074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B0B70-3170-4C9A-86F2-934D08B4B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BB9FF-4839-483C-8673-ACF361C62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BE5D8-832D-4F30-889F-4ED924773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E5D91-1ED7-40D1-BEEA-284AE3531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D7AED-23B4-4F2E-B51C-1F796FE48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F1CB3-89EB-472A-B528-87E7C1C6C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8FEA6-0275-408E-958C-0DDA81360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E21F-01E4-4449-AD10-4BB1C612F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04599-31D2-4536-8F1A-9C4E7C317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E8A43-9566-41D0-A6ED-C31035DD4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DB8BD-8331-4435-8E9C-FE72AB07F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7E638-7D4B-4CC0-9B37-5222D3BDF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FBE6C-EC17-4E92-961D-026B5923A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5A9782-89B8-4080-9D43-AB1E285EE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11A4C4-0A3D-43F1-90FB-A03AF6619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23C43E-F4D0-412E-90FD-BB21C47AE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9F4ECB-F672-4463-A9AA-B0C5A59D0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C4A143-5450-499B-AC8C-2CE9B5A16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74C3-3C8D-4793-A6B0-0F46BD6BE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4C6FDB-8C3A-40A2-AC48-9B9F92B05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9CDEA6-097F-4A9F-9366-38CF1CF32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BCC340-7278-48FB-8A38-C4BC523C4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380649-4A15-4D4E-AF77-57E97DFE2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18A3E0-6DBB-429C-9C08-7406F97D4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E93975-51A3-490B-AF95-AF3AB9D9A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720F52-00BF-4518-BCFA-48175DFBB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53BC75-447E-4601-AF4B-2AA26594C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57B3A3-5193-453B-950E-9C7FE1D6A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77483D-F64E-4D7A-940A-D54487CCA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E144-2B7A-45E0-AD0B-9A5483ED3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D8EFBE-6200-426F-A791-98A3BA295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313832-11AA-4F06-8F32-CFFDFE30C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15E3AA-3B15-4A6C-8FD9-ED4BB42A7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856309-41F4-4479-B688-B2D06EC6B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93A609-9B8D-422C-AE8E-1F14CEC73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EDA5DA-D8CA-4625-BFC7-5953BC14C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69A76F-20E7-47F6-91B4-A8FE737B1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1CB53F-9D24-4A71-B05D-F51297ECE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2F06EE-1B1F-4D8E-8B0E-909CC6A10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67D1CA-D0D5-4DEA-8CF4-0A7072A1D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E4EB-D8A1-45D0-92FB-F8D6ED882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6F8EE9-D581-4EF3-909E-49E73FDC8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E9069D-D498-407E-B1BD-2A5119A2E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ED3088-86AA-4A1A-9510-E9E8D5E1C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6BDD13-8CB9-49E8-82BB-4C9B99110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3E090D-EFEB-4DBB-8B0D-A838C3D29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BABBBF-8ABF-4AF8-93BC-81B51FFE9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E657E9-E5BA-4B41-B881-F13540D28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2F6110-070C-4383-B586-118332EB3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7AA726-01FD-4711-98EF-25896F1C7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1F8298-B693-46CF-AD22-4F979AD3F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E7CB-B4F6-4F75-B6DF-F98F344A0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58278F-DC13-4A76-BE51-3D9BEFCF5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327D-B3A7-469A-86E3-D20450178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D46B-BCB1-44E6-81C5-88CEA77D5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5637-7CC1-41EB-868B-91E3A2E89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à coins arrondis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5CA6C-169B-4EE5-B527-85801465E782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à coins arrondis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15CCC-DB79-44CA-9D08-751C57155670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Rectangle à coins arrondis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Rectangle à coins arrondis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410CA-C3D3-4933-99AF-2B1978A707DE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à coins arrondis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à coins arrondis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3615E-DAEB-42C2-BCB7-B23EE1416539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à coins arrondis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B6546-7BE6-4C1A-8E41-C1D1F662AAFE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400" spc="-1" strike="noStrike">
                <a:solidFill>
                  <a:srgbClr val="696464"/>
                </a:solidFill>
                <a:latin typeface="Perpetua"/>
              </a:rPr>
              <a:t>Le profil de l’entrepreneur 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000" spc="-1" strike="noStrike">
                <a:solidFill>
                  <a:srgbClr val="ffffff"/>
                </a:solidFill>
                <a:latin typeface="Franklin Gothic Book"/>
              </a:rPr>
              <a:t>Chapitre 1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6a6363"/>
                </a:solidFill>
                <a:latin typeface="Franklin Gothic Book"/>
              </a:rPr>
              <a:t>Qu’est-ce qu’un entrepreneur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755280" y="5516280"/>
            <a:ext cx="3738600" cy="2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3" name=""/>
          <p:cNvSpPr txBox="1"/>
          <p:nvPr/>
        </p:nvSpPr>
        <p:spPr>
          <a:xfrm rot="10800000">
            <a:off x="4788000" y="5491080"/>
            <a:ext cx="3970080" cy="1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4" name="Text Box 5"/>
          <p:cNvSpPr/>
          <p:nvPr/>
        </p:nvSpPr>
        <p:spPr>
          <a:xfrm>
            <a:off x="755640" y="2852640"/>
            <a:ext cx="7688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entrepreneur met en place des moyens pour exploiter une occasion d’affaires et ainsi réaliser certaines aspirations personnel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6a6363"/>
                </a:solidFill>
                <a:latin typeface="Franklin Gothic Book"/>
              </a:rPr>
              <a:t>Qu’est-ce qu’un entrepreneur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684000" y="3282840"/>
            <a:ext cx="3809880" cy="25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Assume le risqu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Travaille beaucoup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Est tenac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S’engage à long term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Aime l’ac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4643280" y="3357720"/>
            <a:ext cx="41148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Est créatif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Décide sans tout savoi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Veut être son propre patr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Est autonom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6a6363"/>
                </a:solidFill>
                <a:latin typeface="Franklin Gothic Book"/>
              </a:rPr>
              <a:t>Quelles compétences doit-il maîtriser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Connaissance du secteur d’activité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Connaissances en ges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Confiance en soi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Énergie et pass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Tolérance au stres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S’adapte au changemen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Capacité à s’entourer et à écoute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600" spc="-1" strike="noStrike">
              <a:solidFill>
                <a:srgbClr val="696464"/>
              </a:solidFill>
              <a:latin typeface="Perpetu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6a6363"/>
                </a:solidFill>
                <a:latin typeface="Franklin Gothic Book"/>
              </a:rPr>
              <a:t>Que fait un entrepreneur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6a6363"/>
                </a:solidFill>
                <a:latin typeface="Franklin Gothic Book"/>
              </a:rPr>
              <a:t>Que fait un entrepreneur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Identifie les occasions d’affair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Conçoit et réalise des vision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S’entoure et gère les ressources humain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Met en marché et vend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Prend des décision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Fait fonctionner la produc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Gère les financ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Gère son réseau de contact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Homme-orchestr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600" spc="-1" strike="noStrike">
              <a:solidFill>
                <a:srgbClr val="696464"/>
              </a:solidFill>
              <a:latin typeface="Perpetu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300" spc="-1" strike="noStrike">
                <a:solidFill>
                  <a:srgbClr val="6a6363"/>
                </a:solidFill>
                <a:latin typeface="Franklin Gothic Book"/>
              </a:rPr>
              <a:t>Entrepreneur </a:t>
            </a:r>
            <a:br>
              <a:rPr sz="4300"/>
            </a:br>
            <a:r>
              <a:rPr b="0" lang="fr-CA" sz="4300" spc="-1" strike="noStrike">
                <a:solidFill>
                  <a:srgbClr val="6a6363"/>
                </a:solidFill>
                <a:latin typeface="Franklin Gothic Book"/>
              </a:rPr>
              <a:t>ou </a:t>
            </a:r>
            <a:br>
              <a:rPr sz="4300"/>
            </a:br>
            <a:r>
              <a:rPr b="0" lang="fr-CA" sz="4300" spc="-1" strike="noStrike">
                <a:solidFill>
                  <a:srgbClr val="6a6363"/>
                </a:solidFill>
                <a:latin typeface="Franklin Gothic Book"/>
              </a:rPr>
              <a:t>travailleur autonome?</a:t>
            </a:r>
            <a:endParaRPr b="0" lang="en-US" sz="43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6a6363"/>
                </a:solidFill>
                <a:latin typeface="Franklin Gothic Book"/>
              </a:rPr>
              <a:t>Entrepreneur vs travailleur autonome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934560" y="2420640"/>
            <a:ext cx="8209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000000"/>
                </a:solidFill>
                <a:latin typeface="Perpetua"/>
              </a:rPr>
              <a:t>Travailleur autonome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Perpetua"/>
              </a:rPr>
              <a:t>Grande importance accordée à l’autonomie et l’indépendanc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Perpetua"/>
              </a:rPr>
              <a:t>Recherche la flexibilité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Perpetua"/>
              </a:rPr>
              <a:t>Désire valoriser son travail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Perpetua"/>
              </a:rPr>
              <a:t>Veut se concentrer uniquement sur ce qu’il aim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Entrepreneu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Perpetua"/>
              </a:rPr>
              <a:t>Vise principalement la croissanc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Par choix ou par obligation?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6a6363"/>
                </a:solidFill>
                <a:latin typeface="Franklin Gothic Book"/>
              </a:rPr>
              <a:t>Savez-vous dans quoi vous vous embarquez?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7056360" cy="39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80% travaillent plus de 50h/semaine vs 14% des salarié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826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La moitié consacrent plus de 60h/semaine à leur entrepris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826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Seulement 30% des entrepreneurs se rendent à la cinquième année d’existenc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826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Nombre d’entreprises démarrées avant d’atteindre le succès…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6a6363"/>
                </a:solidFill>
                <a:latin typeface="Rockwell Condensed"/>
              </a:rPr>
              <a:t>5. Parcours d’un jeune entrepreneur</a:t>
            </a:r>
            <a:br>
              <a:rPr sz="3600"/>
            </a:br>
            <a:endParaRPr b="0" lang="en-US" sz="44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/>
          </p:nvPr>
        </p:nvSpPr>
        <p:spPr>
          <a:xfrm>
            <a:off x="893520" y="928800"/>
            <a:ext cx="8250120" cy="5806800"/>
          </a:xfrm>
          <a:prstGeom prst="rect">
            <a:avLst/>
          </a:prstGeom>
          <a:solidFill>
            <a:srgbClr val="ef8c6a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575"/>
              </a:spcBef>
              <a:buClr>
                <a:srgbClr val="a28e6a"/>
              </a:buClr>
              <a:buSzPct val="8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Perpetua"/>
              </a:rPr>
              <a:t>3 principales phases: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990720" indent="-53352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99"/>
                </a:solidFill>
                <a:latin typeface="Perpetua"/>
              </a:rPr>
              <a:t>Phase pré-créatio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Analyse préalable du projet (Etudes de faisabilité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Elaboration du BP (plan d’affaires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Recherche de financement et négociation avec les partenaires financiers ou autre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990720" indent="-53352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99"/>
                </a:solidFill>
                <a:latin typeface="Perpetua"/>
              </a:rPr>
              <a:t>Phase intermédiair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Accomplissement des formalités juridique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990720" indent="-53352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99"/>
                </a:solidFill>
                <a:latin typeface="Perpetua"/>
              </a:rPr>
              <a:t>Phase post - créatio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Gestion des obligations sociale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Mise en place des outils de gestion (Tableaux de bord, comptabilité analytique, etc.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Organisation et gestion administrative et comptable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Analyse relative aux premiers mois d’activité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4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4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4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4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4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4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4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4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4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4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2"/>
          <p:cNvSpPr/>
          <p:nvPr/>
        </p:nvSpPr>
        <p:spPr>
          <a:xfrm>
            <a:off x="1384200" y="209520"/>
            <a:ext cx="604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00"/>
                </a:solidFill>
                <a:latin typeface="Times New Roman"/>
              </a:rPr>
              <a:t>Caractéristiques et apptitu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00"/>
                </a:solidFill>
                <a:latin typeface="Times New Roman"/>
              </a:rPr>
              <a:t>entrepreuneuria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Group 3"/>
          <p:cNvGrpSpPr/>
          <p:nvPr/>
        </p:nvGrpSpPr>
        <p:grpSpPr>
          <a:xfrm>
            <a:off x="347760" y="1457280"/>
            <a:ext cx="8034120" cy="520560"/>
            <a:chOff x="347760" y="1457280"/>
            <a:chExt cx="8034120" cy="520560"/>
          </a:xfrm>
        </p:grpSpPr>
        <p:sp>
          <p:nvSpPr>
            <p:cNvPr id="232" name="AutoShape 4"/>
            <p:cNvSpPr/>
            <p:nvPr/>
          </p:nvSpPr>
          <p:spPr>
            <a:xfrm>
              <a:off x="347760" y="1589040"/>
              <a:ext cx="527040" cy="293760"/>
            </a:xfrm>
            <a:prstGeom prst="rightArrow">
              <a:avLst>
                <a:gd name="adj1" fmla="val 50000"/>
                <a:gd name="adj2" fmla="val 89714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 Box 5"/>
            <p:cNvSpPr/>
            <p:nvPr/>
          </p:nvSpPr>
          <p:spPr>
            <a:xfrm>
              <a:off x="829440" y="1457280"/>
              <a:ext cx="755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Antécédents personnels: famille d’entrepreneur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Group 6"/>
          <p:cNvGrpSpPr/>
          <p:nvPr/>
        </p:nvGrpSpPr>
        <p:grpSpPr>
          <a:xfrm>
            <a:off x="347760" y="2114640"/>
            <a:ext cx="2788920" cy="520560"/>
            <a:chOff x="347760" y="2114640"/>
            <a:chExt cx="2788920" cy="520560"/>
          </a:xfrm>
        </p:grpSpPr>
        <p:sp>
          <p:nvSpPr>
            <p:cNvPr id="235" name="AutoShape 7"/>
            <p:cNvSpPr/>
            <p:nvPr/>
          </p:nvSpPr>
          <p:spPr>
            <a:xfrm>
              <a:off x="347760" y="2246400"/>
              <a:ext cx="527400" cy="293760"/>
            </a:xfrm>
            <a:prstGeom prst="rightArrow">
              <a:avLst>
                <a:gd name="adj1" fmla="val 50000"/>
                <a:gd name="adj2" fmla="val 89775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8"/>
            <p:cNvSpPr/>
            <p:nvPr/>
          </p:nvSpPr>
          <p:spPr>
            <a:xfrm>
              <a:off x="1134720" y="2114640"/>
              <a:ext cx="2001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Motivation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Group 9"/>
          <p:cNvGrpSpPr/>
          <p:nvPr/>
        </p:nvGrpSpPr>
        <p:grpSpPr>
          <a:xfrm>
            <a:off x="347760" y="4241880"/>
            <a:ext cx="5293080" cy="520560"/>
            <a:chOff x="347760" y="4241880"/>
            <a:chExt cx="5293080" cy="520560"/>
          </a:xfrm>
        </p:grpSpPr>
        <p:sp>
          <p:nvSpPr>
            <p:cNvPr id="238" name="AutoShape 10"/>
            <p:cNvSpPr/>
            <p:nvPr/>
          </p:nvSpPr>
          <p:spPr>
            <a:xfrm>
              <a:off x="347760" y="4373640"/>
              <a:ext cx="528480" cy="293760"/>
            </a:xfrm>
            <a:prstGeom prst="rightArrow">
              <a:avLst>
                <a:gd name="adj1" fmla="val 50000"/>
                <a:gd name="adj2" fmla="val 89959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 Box 11"/>
            <p:cNvSpPr/>
            <p:nvPr/>
          </p:nvSpPr>
          <p:spPr>
            <a:xfrm>
              <a:off x="988560" y="4241880"/>
              <a:ext cx="4652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Caractéristiques personnell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Group 12"/>
          <p:cNvGrpSpPr/>
          <p:nvPr/>
        </p:nvGrpSpPr>
        <p:grpSpPr>
          <a:xfrm>
            <a:off x="819000" y="2593800"/>
            <a:ext cx="4067640" cy="459720"/>
            <a:chOff x="819000" y="2593800"/>
            <a:chExt cx="4067640" cy="459720"/>
          </a:xfrm>
        </p:grpSpPr>
        <p:sp>
          <p:nvSpPr>
            <p:cNvPr id="241" name="Rectangle 13"/>
            <p:cNvSpPr/>
            <p:nvPr/>
          </p:nvSpPr>
          <p:spPr>
            <a:xfrm>
              <a:off x="819000" y="27208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14"/>
            <p:cNvSpPr/>
            <p:nvPr/>
          </p:nvSpPr>
          <p:spPr>
            <a:xfrm>
              <a:off x="1289160" y="2593800"/>
              <a:ext cx="359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Besoin d’accompliss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Group 15"/>
          <p:cNvGrpSpPr/>
          <p:nvPr/>
        </p:nvGrpSpPr>
        <p:grpSpPr>
          <a:xfrm>
            <a:off x="819000" y="3076560"/>
            <a:ext cx="3050280" cy="459720"/>
            <a:chOff x="819000" y="3076560"/>
            <a:chExt cx="3050280" cy="459720"/>
          </a:xfrm>
        </p:grpSpPr>
        <p:sp>
          <p:nvSpPr>
            <p:cNvPr id="244" name="Rectangle 16"/>
            <p:cNvSpPr/>
            <p:nvPr/>
          </p:nvSpPr>
          <p:spPr>
            <a:xfrm>
              <a:off x="819000" y="31906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Text Box 17"/>
            <p:cNvSpPr/>
            <p:nvPr/>
          </p:nvSpPr>
          <p:spPr>
            <a:xfrm>
              <a:off x="1350720" y="3076560"/>
              <a:ext cx="2518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Besoin de pouvoi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Group 18"/>
          <p:cNvGrpSpPr/>
          <p:nvPr/>
        </p:nvGrpSpPr>
        <p:grpSpPr>
          <a:xfrm>
            <a:off x="819000" y="3571920"/>
            <a:ext cx="3283200" cy="459720"/>
            <a:chOff x="819000" y="3571920"/>
            <a:chExt cx="3283200" cy="459720"/>
          </a:xfrm>
        </p:grpSpPr>
        <p:sp>
          <p:nvSpPr>
            <p:cNvPr id="247" name="Rectangle 19"/>
            <p:cNvSpPr/>
            <p:nvPr/>
          </p:nvSpPr>
          <p:spPr>
            <a:xfrm>
              <a:off x="819000" y="368640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 Box 20"/>
            <p:cNvSpPr/>
            <p:nvPr/>
          </p:nvSpPr>
          <p:spPr>
            <a:xfrm>
              <a:off x="1336680" y="3571920"/>
              <a:ext cx="276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Besoin d’autonomi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Group 21"/>
          <p:cNvGrpSpPr/>
          <p:nvPr/>
        </p:nvGrpSpPr>
        <p:grpSpPr>
          <a:xfrm>
            <a:off x="785880" y="4753080"/>
            <a:ext cx="2858400" cy="459720"/>
            <a:chOff x="785880" y="4753080"/>
            <a:chExt cx="2858400" cy="459720"/>
          </a:xfrm>
        </p:grpSpPr>
        <p:sp>
          <p:nvSpPr>
            <p:cNvPr id="250" name="Rectangle 22"/>
            <p:cNvSpPr/>
            <p:nvPr/>
          </p:nvSpPr>
          <p:spPr>
            <a:xfrm>
              <a:off x="785880" y="48801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Text Box 23"/>
            <p:cNvSpPr/>
            <p:nvPr/>
          </p:nvSpPr>
          <p:spPr>
            <a:xfrm>
              <a:off x="1328400" y="4753080"/>
              <a:ext cx="231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Confiance en so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Group 24"/>
          <p:cNvGrpSpPr/>
          <p:nvPr/>
        </p:nvGrpSpPr>
        <p:grpSpPr>
          <a:xfrm>
            <a:off x="785880" y="5235480"/>
            <a:ext cx="2473200" cy="459720"/>
            <a:chOff x="785880" y="5235480"/>
            <a:chExt cx="2473200" cy="459720"/>
          </a:xfrm>
        </p:grpSpPr>
        <p:sp>
          <p:nvSpPr>
            <p:cNvPr id="253" name="Rectangle 25"/>
            <p:cNvSpPr/>
            <p:nvPr/>
          </p:nvSpPr>
          <p:spPr>
            <a:xfrm>
              <a:off x="785880" y="534960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Text Box 26"/>
            <p:cNvSpPr/>
            <p:nvPr/>
          </p:nvSpPr>
          <p:spPr>
            <a:xfrm>
              <a:off x="1350000" y="5235480"/>
              <a:ext cx="190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Persévér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Group 27"/>
          <p:cNvGrpSpPr/>
          <p:nvPr/>
        </p:nvGrpSpPr>
        <p:grpSpPr>
          <a:xfrm>
            <a:off x="785880" y="5730840"/>
            <a:ext cx="1801080" cy="459720"/>
            <a:chOff x="785880" y="5730840"/>
            <a:chExt cx="1801080" cy="459720"/>
          </a:xfrm>
        </p:grpSpPr>
        <p:sp>
          <p:nvSpPr>
            <p:cNvPr id="256" name="Rectangle 28"/>
            <p:cNvSpPr/>
            <p:nvPr/>
          </p:nvSpPr>
          <p:spPr>
            <a:xfrm>
              <a:off x="785880" y="58453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 Box 29"/>
            <p:cNvSpPr/>
            <p:nvPr/>
          </p:nvSpPr>
          <p:spPr>
            <a:xfrm>
              <a:off x="1389600" y="5730840"/>
              <a:ext cx="119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nergi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Group 30"/>
          <p:cNvGrpSpPr/>
          <p:nvPr/>
        </p:nvGrpSpPr>
        <p:grpSpPr>
          <a:xfrm>
            <a:off x="4726080" y="4753080"/>
            <a:ext cx="3210120" cy="459720"/>
            <a:chOff x="4726080" y="4753080"/>
            <a:chExt cx="3210120" cy="459720"/>
          </a:xfrm>
        </p:grpSpPr>
        <p:sp>
          <p:nvSpPr>
            <p:cNvPr id="259" name="Rectangle 31"/>
            <p:cNvSpPr/>
            <p:nvPr/>
          </p:nvSpPr>
          <p:spPr>
            <a:xfrm>
              <a:off x="4726080" y="48801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Text Box 32"/>
            <p:cNvSpPr/>
            <p:nvPr/>
          </p:nvSpPr>
          <p:spPr>
            <a:xfrm>
              <a:off x="5247000" y="4753080"/>
              <a:ext cx="2689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Tolérance au stres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Group 33"/>
          <p:cNvGrpSpPr/>
          <p:nvPr/>
        </p:nvGrpSpPr>
        <p:grpSpPr>
          <a:xfrm>
            <a:off x="4726080" y="5235480"/>
            <a:ext cx="3170520" cy="459720"/>
            <a:chOff x="4726080" y="5235480"/>
            <a:chExt cx="3170520" cy="459720"/>
          </a:xfrm>
        </p:grpSpPr>
        <p:sp>
          <p:nvSpPr>
            <p:cNvPr id="262" name="Rectangle 34"/>
            <p:cNvSpPr/>
            <p:nvPr/>
          </p:nvSpPr>
          <p:spPr>
            <a:xfrm>
              <a:off x="4726080" y="534960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35"/>
            <p:cNvSpPr/>
            <p:nvPr/>
          </p:nvSpPr>
          <p:spPr>
            <a:xfrm>
              <a:off x="5249880" y="5235480"/>
              <a:ext cx="264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Capacité d’analys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Group 36"/>
          <p:cNvGrpSpPr/>
          <p:nvPr/>
        </p:nvGrpSpPr>
        <p:grpSpPr>
          <a:xfrm>
            <a:off x="4726080" y="5730840"/>
            <a:ext cx="2986200" cy="459720"/>
            <a:chOff x="4726080" y="5730840"/>
            <a:chExt cx="2986200" cy="459720"/>
          </a:xfrm>
        </p:grpSpPr>
        <p:sp>
          <p:nvSpPr>
            <p:cNvPr id="265" name="Rectangle 37"/>
            <p:cNvSpPr/>
            <p:nvPr/>
          </p:nvSpPr>
          <p:spPr>
            <a:xfrm>
              <a:off x="4726080" y="58453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38"/>
            <p:cNvSpPr/>
            <p:nvPr/>
          </p:nvSpPr>
          <p:spPr>
            <a:xfrm>
              <a:off x="5259240" y="5730840"/>
              <a:ext cx="245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ens de créativit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2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2"/>
          <p:cNvSpPr/>
          <p:nvPr/>
        </p:nvSpPr>
        <p:spPr>
          <a:xfrm>
            <a:off x="1384560" y="209520"/>
            <a:ext cx="604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00"/>
                </a:solidFill>
                <a:latin typeface="Times New Roman"/>
              </a:rPr>
              <a:t>Caractéristiques et apptitu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00"/>
                </a:solidFill>
                <a:latin typeface="Times New Roman"/>
              </a:rPr>
              <a:t>entrepreunariales (suit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Group 3"/>
          <p:cNvGrpSpPr/>
          <p:nvPr/>
        </p:nvGrpSpPr>
        <p:grpSpPr>
          <a:xfrm>
            <a:off x="369720" y="1568520"/>
            <a:ext cx="2396880" cy="520560"/>
            <a:chOff x="369720" y="1568520"/>
            <a:chExt cx="2396880" cy="520560"/>
          </a:xfrm>
        </p:grpSpPr>
        <p:sp>
          <p:nvSpPr>
            <p:cNvPr id="269" name="AutoShape 4"/>
            <p:cNvSpPr/>
            <p:nvPr/>
          </p:nvSpPr>
          <p:spPr>
            <a:xfrm>
              <a:off x="369720" y="1700280"/>
              <a:ext cx="527400" cy="293760"/>
            </a:xfrm>
            <a:prstGeom prst="rightArrow">
              <a:avLst>
                <a:gd name="adj1" fmla="val 50000"/>
                <a:gd name="adj2" fmla="val 89775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 Box 5"/>
            <p:cNvSpPr/>
            <p:nvPr/>
          </p:nvSpPr>
          <p:spPr>
            <a:xfrm>
              <a:off x="1182240" y="1568520"/>
              <a:ext cx="158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Attitud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Group 6"/>
          <p:cNvGrpSpPr/>
          <p:nvPr/>
        </p:nvGrpSpPr>
        <p:grpSpPr>
          <a:xfrm>
            <a:off x="347760" y="3327480"/>
            <a:ext cx="3383640" cy="520560"/>
            <a:chOff x="347760" y="3327480"/>
            <a:chExt cx="3383640" cy="520560"/>
          </a:xfrm>
        </p:grpSpPr>
        <p:sp>
          <p:nvSpPr>
            <p:cNvPr id="272" name="AutoShape 7"/>
            <p:cNvSpPr/>
            <p:nvPr/>
          </p:nvSpPr>
          <p:spPr>
            <a:xfrm>
              <a:off x="347760" y="3459240"/>
              <a:ext cx="528480" cy="293760"/>
            </a:xfrm>
            <a:prstGeom prst="rightArrow">
              <a:avLst>
                <a:gd name="adj1" fmla="val 50000"/>
                <a:gd name="adj2" fmla="val 89959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Text Box 8"/>
            <p:cNvSpPr/>
            <p:nvPr/>
          </p:nvSpPr>
          <p:spPr>
            <a:xfrm>
              <a:off x="1103040" y="3327480"/>
              <a:ext cx="262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Comportement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Group 9"/>
          <p:cNvGrpSpPr/>
          <p:nvPr/>
        </p:nvGrpSpPr>
        <p:grpSpPr>
          <a:xfrm>
            <a:off x="843120" y="2149560"/>
            <a:ext cx="4807440" cy="459720"/>
            <a:chOff x="843120" y="2149560"/>
            <a:chExt cx="4807440" cy="459720"/>
          </a:xfrm>
        </p:grpSpPr>
        <p:sp>
          <p:nvSpPr>
            <p:cNvPr id="275" name="Rectangle 10"/>
            <p:cNvSpPr/>
            <p:nvPr/>
          </p:nvSpPr>
          <p:spPr>
            <a:xfrm>
              <a:off x="843120" y="22766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Text Box 11"/>
            <p:cNvSpPr/>
            <p:nvPr/>
          </p:nvSpPr>
          <p:spPr>
            <a:xfrm>
              <a:off x="1266480" y="2149560"/>
              <a:ext cx="438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Ouverture face à la concurre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Group 12"/>
          <p:cNvGrpSpPr/>
          <p:nvPr/>
        </p:nvGrpSpPr>
        <p:grpSpPr>
          <a:xfrm>
            <a:off x="843120" y="2631960"/>
            <a:ext cx="3578040" cy="459720"/>
            <a:chOff x="843120" y="2631960"/>
            <a:chExt cx="3578040" cy="459720"/>
          </a:xfrm>
        </p:grpSpPr>
        <p:sp>
          <p:nvSpPr>
            <p:cNvPr id="278" name="Rectangle 13"/>
            <p:cNvSpPr/>
            <p:nvPr/>
          </p:nvSpPr>
          <p:spPr>
            <a:xfrm>
              <a:off x="843120" y="27460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Text Box 14"/>
            <p:cNvSpPr/>
            <p:nvPr/>
          </p:nvSpPr>
          <p:spPr>
            <a:xfrm>
              <a:off x="1343160" y="2631960"/>
              <a:ext cx="30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Vision du chang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Group 15"/>
          <p:cNvGrpSpPr/>
          <p:nvPr/>
        </p:nvGrpSpPr>
        <p:grpSpPr>
          <a:xfrm>
            <a:off x="819000" y="3838680"/>
            <a:ext cx="2043000" cy="459720"/>
            <a:chOff x="819000" y="3838680"/>
            <a:chExt cx="2043000" cy="459720"/>
          </a:xfrm>
        </p:grpSpPr>
        <p:sp>
          <p:nvSpPr>
            <p:cNvPr id="281" name="Rectangle 16"/>
            <p:cNvSpPr/>
            <p:nvPr/>
          </p:nvSpPr>
          <p:spPr>
            <a:xfrm>
              <a:off x="819000" y="39657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 Box 17"/>
            <p:cNvSpPr/>
            <p:nvPr/>
          </p:nvSpPr>
          <p:spPr>
            <a:xfrm>
              <a:off x="1410120" y="3838680"/>
              <a:ext cx="145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mpathi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Group 18"/>
          <p:cNvGrpSpPr/>
          <p:nvPr/>
        </p:nvGrpSpPr>
        <p:grpSpPr>
          <a:xfrm>
            <a:off x="819000" y="4321080"/>
            <a:ext cx="2331000" cy="459720"/>
            <a:chOff x="819000" y="4321080"/>
            <a:chExt cx="2331000" cy="459720"/>
          </a:xfrm>
        </p:grpSpPr>
        <p:sp>
          <p:nvSpPr>
            <p:cNvPr id="284" name="Rectangle 19"/>
            <p:cNvSpPr/>
            <p:nvPr/>
          </p:nvSpPr>
          <p:spPr>
            <a:xfrm>
              <a:off x="819000" y="4435200"/>
              <a:ext cx="22860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Text Box 20"/>
            <p:cNvSpPr/>
            <p:nvPr/>
          </p:nvSpPr>
          <p:spPr>
            <a:xfrm>
              <a:off x="1393560" y="4321080"/>
              <a:ext cx="175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Leader-shi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Group 21"/>
          <p:cNvGrpSpPr/>
          <p:nvPr/>
        </p:nvGrpSpPr>
        <p:grpSpPr>
          <a:xfrm>
            <a:off x="819000" y="4816440"/>
            <a:ext cx="2610720" cy="459720"/>
            <a:chOff x="819000" y="4816440"/>
            <a:chExt cx="2610720" cy="459720"/>
          </a:xfrm>
        </p:grpSpPr>
        <p:sp>
          <p:nvSpPr>
            <p:cNvPr id="287" name="Rectangle 22"/>
            <p:cNvSpPr/>
            <p:nvPr/>
          </p:nvSpPr>
          <p:spPr>
            <a:xfrm>
              <a:off x="819000" y="49309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Text Box 23"/>
            <p:cNvSpPr/>
            <p:nvPr/>
          </p:nvSpPr>
          <p:spPr>
            <a:xfrm>
              <a:off x="1375920" y="4816440"/>
              <a:ext cx="205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sprit curieu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Group 24"/>
          <p:cNvGrpSpPr/>
          <p:nvPr/>
        </p:nvGrpSpPr>
        <p:grpSpPr>
          <a:xfrm>
            <a:off x="819000" y="5248440"/>
            <a:ext cx="3523320" cy="459720"/>
            <a:chOff x="819000" y="5248440"/>
            <a:chExt cx="3523320" cy="459720"/>
          </a:xfrm>
        </p:grpSpPr>
        <p:sp>
          <p:nvSpPr>
            <p:cNvPr id="290" name="Rectangle 25"/>
            <p:cNvSpPr/>
            <p:nvPr/>
          </p:nvSpPr>
          <p:spPr>
            <a:xfrm>
              <a:off x="819000" y="53755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Text Box 26"/>
            <p:cNvSpPr/>
            <p:nvPr/>
          </p:nvSpPr>
          <p:spPr>
            <a:xfrm>
              <a:off x="1322280" y="5248440"/>
              <a:ext cx="302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Désir d’apprentissag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" name="Group 27"/>
          <p:cNvGrpSpPr/>
          <p:nvPr/>
        </p:nvGrpSpPr>
        <p:grpSpPr>
          <a:xfrm>
            <a:off x="819000" y="5730840"/>
            <a:ext cx="3243600" cy="459720"/>
            <a:chOff x="819000" y="5730840"/>
            <a:chExt cx="3243600" cy="459720"/>
          </a:xfrm>
        </p:grpSpPr>
        <p:sp>
          <p:nvSpPr>
            <p:cNvPr id="293" name="Rectangle 28"/>
            <p:cNvSpPr/>
            <p:nvPr/>
          </p:nvSpPr>
          <p:spPr>
            <a:xfrm>
              <a:off x="819000" y="58449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Text Box 29"/>
            <p:cNvSpPr/>
            <p:nvPr/>
          </p:nvSpPr>
          <p:spPr>
            <a:xfrm>
              <a:off x="1338480" y="5730840"/>
              <a:ext cx="2724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aisie des occas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Group 30"/>
          <p:cNvGrpSpPr/>
          <p:nvPr/>
        </p:nvGrpSpPr>
        <p:grpSpPr>
          <a:xfrm>
            <a:off x="819000" y="6226200"/>
            <a:ext cx="3115440" cy="459720"/>
            <a:chOff x="819000" y="6226200"/>
            <a:chExt cx="3115440" cy="459720"/>
          </a:xfrm>
        </p:grpSpPr>
        <p:sp>
          <p:nvSpPr>
            <p:cNvPr id="296" name="Rectangle 31"/>
            <p:cNvSpPr/>
            <p:nvPr/>
          </p:nvSpPr>
          <p:spPr>
            <a:xfrm>
              <a:off x="819000" y="6340680"/>
              <a:ext cx="22860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 Box 32"/>
            <p:cNvSpPr/>
            <p:nvPr/>
          </p:nvSpPr>
          <p:spPr>
            <a:xfrm>
              <a:off x="1345680" y="6226200"/>
              <a:ext cx="25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Prise des décis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4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9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9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4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9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9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4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Text Box 2"/>
          <p:cNvSpPr/>
          <p:nvPr/>
        </p:nvSpPr>
        <p:spPr>
          <a:xfrm>
            <a:off x="1091160" y="1095480"/>
            <a:ext cx="156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2d1f"/>
                </a:solidFill>
                <a:latin typeface="Times New Roman"/>
              </a:rPr>
              <a:t>Salari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Group 3"/>
          <p:cNvGrpSpPr/>
          <p:nvPr/>
        </p:nvGrpSpPr>
        <p:grpSpPr>
          <a:xfrm>
            <a:off x="447840" y="1946160"/>
            <a:ext cx="2513880" cy="459720"/>
            <a:chOff x="447840" y="1946160"/>
            <a:chExt cx="2513880" cy="459720"/>
          </a:xfrm>
        </p:grpSpPr>
        <p:sp>
          <p:nvSpPr>
            <p:cNvPr id="300" name="Rectangle 4"/>
            <p:cNvSpPr/>
            <p:nvPr/>
          </p:nvSpPr>
          <p:spPr>
            <a:xfrm>
              <a:off x="447840" y="20732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Text Box 5"/>
            <p:cNvSpPr/>
            <p:nvPr/>
          </p:nvSpPr>
          <p:spPr>
            <a:xfrm>
              <a:off x="1010160" y="1946160"/>
              <a:ext cx="1951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Revenus fix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Group 6"/>
          <p:cNvGrpSpPr/>
          <p:nvPr/>
        </p:nvGrpSpPr>
        <p:grpSpPr>
          <a:xfrm>
            <a:off x="447840" y="2644920"/>
            <a:ext cx="3009600" cy="459720"/>
            <a:chOff x="447840" y="2644920"/>
            <a:chExt cx="3009600" cy="459720"/>
          </a:xfrm>
        </p:grpSpPr>
        <p:sp>
          <p:nvSpPr>
            <p:cNvPr id="303" name="Rectangle 7"/>
            <p:cNvSpPr/>
            <p:nvPr/>
          </p:nvSpPr>
          <p:spPr>
            <a:xfrm>
              <a:off x="447840" y="27590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Text Box 8"/>
            <p:cNvSpPr/>
            <p:nvPr/>
          </p:nvSpPr>
          <p:spPr>
            <a:xfrm>
              <a:off x="978480" y="2644920"/>
              <a:ext cx="247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Protection socia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Group 9"/>
          <p:cNvGrpSpPr/>
          <p:nvPr/>
        </p:nvGrpSpPr>
        <p:grpSpPr>
          <a:xfrm>
            <a:off x="447840" y="3419640"/>
            <a:ext cx="2881440" cy="459720"/>
            <a:chOff x="447840" y="3419640"/>
            <a:chExt cx="2881440" cy="459720"/>
          </a:xfrm>
        </p:grpSpPr>
        <p:sp>
          <p:nvSpPr>
            <p:cNvPr id="306" name="Rectangle 10"/>
            <p:cNvSpPr/>
            <p:nvPr/>
          </p:nvSpPr>
          <p:spPr>
            <a:xfrm>
              <a:off x="447840" y="35341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11"/>
            <p:cNvSpPr/>
            <p:nvPr/>
          </p:nvSpPr>
          <p:spPr>
            <a:xfrm>
              <a:off x="988920" y="3419640"/>
              <a:ext cx="234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Vacances payé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Text Box 12"/>
          <p:cNvSpPr/>
          <p:nvPr/>
        </p:nvSpPr>
        <p:spPr>
          <a:xfrm>
            <a:off x="-268560" y="184320"/>
            <a:ext cx="969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00"/>
                </a:solidFill>
                <a:latin typeface="Times New Roman"/>
              </a:rPr>
              <a:t>Avantages des statuts salarié et entrepreuneur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13"/>
          <p:cNvSpPr/>
          <p:nvPr/>
        </p:nvSpPr>
        <p:spPr>
          <a:xfrm>
            <a:off x="4757040" y="1095480"/>
            <a:ext cx="30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2d1f"/>
                </a:solidFill>
                <a:latin typeface="Times New Roman"/>
              </a:rPr>
              <a:t>Entrepreneuri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Group 14"/>
          <p:cNvGrpSpPr/>
          <p:nvPr/>
        </p:nvGrpSpPr>
        <p:grpSpPr>
          <a:xfrm>
            <a:off x="447840" y="4194000"/>
            <a:ext cx="2817360" cy="459720"/>
            <a:chOff x="447840" y="4194000"/>
            <a:chExt cx="2817360" cy="459720"/>
          </a:xfrm>
        </p:grpSpPr>
        <p:sp>
          <p:nvSpPr>
            <p:cNvPr id="311" name="Rectangle 15"/>
            <p:cNvSpPr/>
            <p:nvPr/>
          </p:nvSpPr>
          <p:spPr>
            <a:xfrm>
              <a:off x="447840" y="43210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Text Box 16"/>
            <p:cNvSpPr/>
            <p:nvPr/>
          </p:nvSpPr>
          <p:spPr>
            <a:xfrm>
              <a:off x="992160" y="4194000"/>
              <a:ext cx="227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Cadre structur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Group 17"/>
          <p:cNvGrpSpPr/>
          <p:nvPr/>
        </p:nvGrpSpPr>
        <p:grpSpPr>
          <a:xfrm>
            <a:off x="447840" y="5019840"/>
            <a:ext cx="4304880" cy="459720"/>
            <a:chOff x="447840" y="5019840"/>
            <a:chExt cx="4304880" cy="459720"/>
          </a:xfrm>
        </p:grpSpPr>
        <p:sp>
          <p:nvSpPr>
            <p:cNvPr id="314" name="Rectangle 18"/>
            <p:cNvSpPr/>
            <p:nvPr/>
          </p:nvSpPr>
          <p:spPr>
            <a:xfrm>
              <a:off x="447840" y="51339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Text Box 19"/>
            <p:cNvSpPr/>
            <p:nvPr/>
          </p:nvSpPr>
          <p:spPr>
            <a:xfrm>
              <a:off x="902160" y="5019840"/>
              <a:ext cx="385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Rencontre avec les collègu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Group 20"/>
          <p:cNvGrpSpPr/>
          <p:nvPr/>
        </p:nvGrpSpPr>
        <p:grpSpPr>
          <a:xfrm>
            <a:off x="458640" y="5832360"/>
            <a:ext cx="3891240" cy="459720"/>
            <a:chOff x="458640" y="5832360"/>
            <a:chExt cx="3891240" cy="459720"/>
          </a:xfrm>
        </p:grpSpPr>
        <p:sp>
          <p:nvSpPr>
            <p:cNvPr id="317" name="Rectangle 21"/>
            <p:cNvSpPr/>
            <p:nvPr/>
          </p:nvSpPr>
          <p:spPr>
            <a:xfrm>
              <a:off x="458640" y="59468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Text Box 22"/>
            <p:cNvSpPr/>
            <p:nvPr/>
          </p:nvSpPr>
          <p:spPr>
            <a:xfrm>
              <a:off x="938160" y="5832360"/>
              <a:ext cx="341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Possibilité d’avanc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Group 23"/>
          <p:cNvGrpSpPr/>
          <p:nvPr/>
        </p:nvGrpSpPr>
        <p:grpSpPr>
          <a:xfrm>
            <a:off x="4849920" y="1895400"/>
            <a:ext cx="4050360" cy="459720"/>
            <a:chOff x="4849920" y="1895400"/>
            <a:chExt cx="4050360" cy="459720"/>
          </a:xfrm>
        </p:grpSpPr>
        <p:sp>
          <p:nvSpPr>
            <p:cNvPr id="320" name="Rectangle 24"/>
            <p:cNvSpPr/>
            <p:nvPr/>
          </p:nvSpPr>
          <p:spPr>
            <a:xfrm>
              <a:off x="4849920" y="20224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Text Box 25"/>
            <p:cNvSpPr/>
            <p:nvPr/>
          </p:nvSpPr>
          <p:spPr>
            <a:xfrm>
              <a:off x="5322600" y="1895400"/>
              <a:ext cx="357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Autonomie/ indépend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Group 26"/>
          <p:cNvGrpSpPr/>
          <p:nvPr/>
        </p:nvGrpSpPr>
        <p:grpSpPr>
          <a:xfrm>
            <a:off x="4849920" y="2644920"/>
            <a:ext cx="4730400" cy="459720"/>
            <a:chOff x="4849920" y="2644920"/>
            <a:chExt cx="4730400" cy="459720"/>
          </a:xfrm>
        </p:grpSpPr>
        <p:sp>
          <p:nvSpPr>
            <p:cNvPr id="323" name="Rectangle 27"/>
            <p:cNvSpPr/>
            <p:nvPr/>
          </p:nvSpPr>
          <p:spPr>
            <a:xfrm>
              <a:off x="4849920" y="27590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Text Box 28"/>
            <p:cNvSpPr/>
            <p:nvPr/>
          </p:nvSpPr>
          <p:spPr>
            <a:xfrm>
              <a:off x="5278680" y="2644920"/>
              <a:ext cx="430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Mettre à profit ses compéten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Group 29"/>
          <p:cNvGrpSpPr/>
          <p:nvPr/>
        </p:nvGrpSpPr>
        <p:grpSpPr>
          <a:xfrm>
            <a:off x="4849920" y="3419640"/>
            <a:ext cx="3226320" cy="459720"/>
            <a:chOff x="4849920" y="3419640"/>
            <a:chExt cx="3226320" cy="459720"/>
          </a:xfrm>
        </p:grpSpPr>
        <p:sp>
          <p:nvSpPr>
            <p:cNvPr id="326" name="Rectangle 30"/>
            <p:cNvSpPr/>
            <p:nvPr/>
          </p:nvSpPr>
          <p:spPr>
            <a:xfrm>
              <a:off x="4849920" y="35341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Text Box 31"/>
            <p:cNvSpPr/>
            <p:nvPr/>
          </p:nvSpPr>
          <p:spPr>
            <a:xfrm>
              <a:off x="5368680" y="3419640"/>
              <a:ext cx="270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Diversité du travai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Group 32"/>
          <p:cNvGrpSpPr/>
          <p:nvPr/>
        </p:nvGrpSpPr>
        <p:grpSpPr>
          <a:xfrm>
            <a:off x="4849920" y="4194000"/>
            <a:ext cx="3858480" cy="825480"/>
            <a:chOff x="4849920" y="4194000"/>
            <a:chExt cx="3858480" cy="825480"/>
          </a:xfrm>
        </p:grpSpPr>
        <p:sp>
          <p:nvSpPr>
            <p:cNvPr id="329" name="Rectangle 33"/>
            <p:cNvSpPr/>
            <p:nvPr/>
          </p:nvSpPr>
          <p:spPr>
            <a:xfrm>
              <a:off x="4849920" y="43210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 Box 34"/>
            <p:cNvSpPr/>
            <p:nvPr/>
          </p:nvSpPr>
          <p:spPr>
            <a:xfrm>
              <a:off x="5330160" y="4194000"/>
              <a:ext cx="3378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Possibilité de croissanc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économiqu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Group 35"/>
          <p:cNvGrpSpPr/>
          <p:nvPr/>
        </p:nvGrpSpPr>
        <p:grpSpPr>
          <a:xfrm>
            <a:off x="4838760" y="5019840"/>
            <a:ext cx="2916360" cy="459720"/>
            <a:chOff x="4838760" y="5019840"/>
            <a:chExt cx="2916360" cy="459720"/>
          </a:xfrm>
        </p:grpSpPr>
        <p:sp>
          <p:nvSpPr>
            <p:cNvPr id="332" name="Rectangle 36"/>
            <p:cNvSpPr/>
            <p:nvPr/>
          </p:nvSpPr>
          <p:spPr>
            <a:xfrm>
              <a:off x="4838760" y="51339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Text Box 37"/>
            <p:cNvSpPr/>
            <p:nvPr/>
          </p:nvSpPr>
          <p:spPr>
            <a:xfrm>
              <a:off x="5376960" y="5019840"/>
              <a:ext cx="2378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Défits stimulan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Group 38"/>
          <p:cNvGrpSpPr/>
          <p:nvPr/>
        </p:nvGrpSpPr>
        <p:grpSpPr>
          <a:xfrm>
            <a:off x="4832280" y="5918040"/>
            <a:ext cx="3697920" cy="459720"/>
            <a:chOff x="4832280" y="5918040"/>
            <a:chExt cx="3697920" cy="459720"/>
          </a:xfrm>
        </p:grpSpPr>
        <p:sp>
          <p:nvSpPr>
            <p:cNvPr id="335" name="Rectangle 39"/>
            <p:cNvSpPr/>
            <p:nvPr/>
          </p:nvSpPr>
          <p:spPr>
            <a:xfrm>
              <a:off x="4832280" y="60325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Text Box 40"/>
            <p:cNvSpPr/>
            <p:nvPr/>
          </p:nvSpPr>
          <p:spPr>
            <a:xfrm>
              <a:off x="5325840" y="5918040"/>
              <a:ext cx="320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tre son propre patr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Text Box 2"/>
          <p:cNvSpPr/>
          <p:nvPr/>
        </p:nvSpPr>
        <p:spPr>
          <a:xfrm>
            <a:off x="896760" y="1095480"/>
            <a:ext cx="156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2d1f"/>
                </a:solidFill>
                <a:latin typeface="Times New Roman"/>
              </a:rPr>
              <a:t>Salari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8" name="Group 3"/>
          <p:cNvGrpSpPr/>
          <p:nvPr/>
        </p:nvGrpSpPr>
        <p:grpSpPr>
          <a:xfrm>
            <a:off x="252360" y="1946160"/>
            <a:ext cx="2754000" cy="459720"/>
            <a:chOff x="252360" y="1946160"/>
            <a:chExt cx="2754000" cy="459720"/>
          </a:xfrm>
        </p:grpSpPr>
        <p:sp>
          <p:nvSpPr>
            <p:cNvPr id="339" name="Rectangle 4"/>
            <p:cNvSpPr/>
            <p:nvPr/>
          </p:nvSpPr>
          <p:spPr>
            <a:xfrm>
              <a:off x="252360" y="20732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Text Box 5"/>
            <p:cNvSpPr/>
            <p:nvPr/>
          </p:nvSpPr>
          <p:spPr>
            <a:xfrm>
              <a:off x="800280" y="1946160"/>
              <a:ext cx="220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Faibles revenu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Group 6"/>
          <p:cNvGrpSpPr/>
          <p:nvPr/>
        </p:nvGrpSpPr>
        <p:grpSpPr>
          <a:xfrm>
            <a:off x="252360" y="2644920"/>
            <a:ext cx="1818360" cy="459720"/>
            <a:chOff x="252360" y="2644920"/>
            <a:chExt cx="1818360" cy="459720"/>
          </a:xfrm>
        </p:grpSpPr>
        <p:sp>
          <p:nvSpPr>
            <p:cNvPr id="342" name="Rectangle 7"/>
            <p:cNvSpPr/>
            <p:nvPr/>
          </p:nvSpPr>
          <p:spPr>
            <a:xfrm>
              <a:off x="252360" y="27590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Text Box 8"/>
            <p:cNvSpPr/>
            <p:nvPr/>
          </p:nvSpPr>
          <p:spPr>
            <a:xfrm>
              <a:off x="856800" y="2644920"/>
              <a:ext cx="121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Routi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Group 9"/>
          <p:cNvGrpSpPr/>
          <p:nvPr/>
        </p:nvGrpSpPr>
        <p:grpSpPr>
          <a:xfrm>
            <a:off x="252360" y="3419640"/>
            <a:ext cx="3690720" cy="459720"/>
            <a:chOff x="252360" y="3419640"/>
            <a:chExt cx="3690720" cy="459720"/>
          </a:xfrm>
        </p:grpSpPr>
        <p:sp>
          <p:nvSpPr>
            <p:cNvPr id="345" name="Rectangle 10"/>
            <p:cNvSpPr/>
            <p:nvPr/>
          </p:nvSpPr>
          <p:spPr>
            <a:xfrm>
              <a:off x="252360" y="35341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Text Box 11"/>
            <p:cNvSpPr/>
            <p:nvPr/>
          </p:nvSpPr>
          <p:spPr>
            <a:xfrm>
              <a:off x="744840" y="3419640"/>
              <a:ext cx="31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Travail peu intéressa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7" name="Text Box 12"/>
          <p:cNvSpPr/>
          <p:nvPr/>
        </p:nvSpPr>
        <p:spPr>
          <a:xfrm>
            <a:off x="602640" y="282600"/>
            <a:ext cx="793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00"/>
                </a:solidFill>
                <a:latin typeface="Times New Roman"/>
              </a:rPr>
              <a:t>Inconvenients des statuts salarié et entrepreuna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13"/>
          <p:cNvSpPr/>
          <p:nvPr/>
        </p:nvSpPr>
        <p:spPr>
          <a:xfrm>
            <a:off x="4561920" y="1095480"/>
            <a:ext cx="30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2d1f"/>
                </a:solidFill>
                <a:latin typeface="Times New Roman"/>
              </a:rPr>
              <a:t>Entrepreneuri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9" name="Group 14"/>
          <p:cNvGrpSpPr/>
          <p:nvPr/>
        </p:nvGrpSpPr>
        <p:grpSpPr>
          <a:xfrm>
            <a:off x="252360" y="4194000"/>
            <a:ext cx="2562480" cy="459720"/>
            <a:chOff x="252360" y="4194000"/>
            <a:chExt cx="2562480" cy="459720"/>
          </a:xfrm>
        </p:grpSpPr>
        <p:sp>
          <p:nvSpPr>
            <p:cNvPr id="350" name="Rectangle 15"/>
            <p:cNvSpPr/>
            <p:nvPr/>
          </p:nvSpPr>
          <p:spPr>
            <a:xfrm>
              <a:off x="252360" y="43210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Text Box 16"/>
            <p:cNvSpPr/>
            <p:nvPr/>
          </p:nvSpPr>
          <p:spPr>
            <a:xfrm>
              <a:off x="811440" y="4194000"/>
              <a:ext cx="200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mplois ra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Group 17"/>
          <p:cNvGrpSpPr/>
          <p:nvPr/>
        </p:nvGrpSpPr>
        <p:grpSpPr>
          <a:xfrm>
            <a:off x="252360" y="5019840"/>
            <a:ext cx="3665880" cy="825480"/>
            <a:chOff x="252360" y="5019840"/>
            <a:chExt cx="3665880" cy="825480"/>
          </a:xfrm>
        </p:grpSpPr>
        <p:sp>
          <p:nvSpPr>
            <p:cNvPr id="353" name="Rectangle 18"/>
            <p:cNvSpPr/>
            <p:nvPr/>
          </p:nvSpPr>
          <p:spPr>
            <a:xfrm>
              <a:off x="252360" y="51339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Text Box 19"/>
            <p:cNvSpPr/>
            <p:nvPr/>
          </p:nvSpPr>
          <p:spPr>
            <a:xfrm>
              <a:off x="745920" y="5019840"/>
              <a:ext cx="3172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Dépendance qui limit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on potentie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Group 20"/>
          <p:cNvGrpSpPr/>
          <p:nvPr/>
        </p:nvGrpSpPr>
        <p:grpSpPr>
          <a:xfrm>
            <a:off x="263520" y="5832360"/>
            <a:ext cx="1474560" cy="459720"/>
            <a:chOff x="263520" y="5832360"/>
            <a:chExt cx="1474560" cy="459720"/>
          </a:xfrm>
        </p:grpSpPr>
        <p:sp>
          <p:nvSpPr>
            <p:cNvPr id="356" name="Rectangle 21"/>
            <p:cNvSpPr/>
            <p:nvPr/>
          </p:nvSpPr>
          <p:spPr>
            <a:xfrm>
              <a:off x="263520" y="59468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Text Box 22"/>
            <p:cNvSpPr/>
            <p:nvPr/>
          </p:nvSpPr>
          <p:spPr>
            <a:xfrm>
              <a:off x="888480" y="5832360"/>
              <a:ext cx="84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tc..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" name="Group 23"/>
          <p:cNvGrpSpPr/>
          <p:nvPr/>
        </p:nvGrpSpPr>
        <p:grpSpPr>
          <a:xfrm>
            <a:off x="4654440" y="1895400"/>
            <a:ext cx="3180240" cy="459720"/>
            <a:chOff x="4654440" y="1895400"/>
            <a:chExt cx="3180240" cy="459720"/>
          </a:xfrm>
        </p:grpSpPr>
        <p:sp>
          <p:nvSpPr>
            <p:cNvPr id="359" name="Rectangle 24"/>
            <p:cNvSpPr/>
            <p:nvPr/>
          </p:nvSpPr>
          <p:spPr>
            <a:xfrm>
              <a:off x="4654440" y="20224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Text Box 25"/>
            <p:cNvSpPr/>
            <p:nvPr/>
          </p:nvSpPr>
          <p:spPr>
            <a:xfrm>
              <a:off x="5178960" y="1895400"/>
              <a:ext cx="2655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tress de l’inconnu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Group 26"/>
          <p:cNvGrpSpPr/>
          <p:nvPr/>
        </p:nvGrpSpPr>
        <p:grpSpPr>
          <a:xfrm>
            <a:off x="4654440" y="2644920"/>
            <a:ext cx="2043720" cy="459720"/>
            <a:chOff x="4654440" y="2644920"/>
            <a:chExt cx="2043720" cy="459720"/>
          </a:xfrm>
        </p:grpSpPr>
        <p:sp>
          <p:nvSpPr>
            <p:cNvPr id="362" name="Rectangle 27"/>
            <p:cNvSpPr/>
            <p:nvPr/>
          </p:nvSpPr>
          <p:spPr>
            <a:xfrm>
              <a:off x="4654440" y="27590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Text Box 28"/>
            <p:cNvSpPr/>
            <p:nvPr/>
          </p:nvSpPr>
          <p:spPr>
            <a:xfrm>
              <a:off x="5244840" y="2644920"/>
              <a:ext cx="145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Isol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" name="Group 29"/>
          <p:cNvGrpSpPr/>
          <p:nvPr/>
        </p:nvGrpSpPr>
        <p:grpSpPr>
          <a:xfrm>
            <a:off x="4654440" y="3419640"/>
            <a:ext cx="4290120" cy="459720"/>
            <a:chOff x="4654440" y="3419640"/>
            <a:chExt cx="4290120" cy="459720"/>
          </a:xfrm>
        </p:grpSpPr>
        <p:sp>
          <p:nvSpPr>
            <p:cNvPr id="365" name="Rectangle 30"/>
            <p:cNvSpPr/>
            <p:nvPr/>
          </p:nvSpPr>
          <p:spPr>
            <a:xfrm>
              <a:off x="4654440" y="35341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Text Box 31"/>
            <p:cNvSpPr/>
            <p:nvPr/>
          </p:nvSpPr>
          <p:spPr>
            <a:xfrm>
              <a:off x="5110920" y="3419640"/>
              <a:ext cx="383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Risque de pertes financiè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Group 32"/>
          <p:cNvGrpSpPr/>
          <p:nvPr/>
        </p:nvGrpSpPr>
        <p:grpSpPr>
          <a:xfrm>
            <a:off x="4654440" y="4194000"/>
            <a:ext cx="4498560" cy="459720"/>
            <a:chOff x="4654440" y="4194000"/>
            <a:chExt cx="4498560" cy="459720"/>
          </a:xfrm>
        </p:grpSpPr>
        <p:sp>
          <p:nvSpPr>
            <p:cNvPr id="368" name="Rectangle 33"/>
            <p:cNvSpPr/>
            <p:nvPr/>
          </p:nvSpPr>
          <p:spPr>
            <a:xfrm>
              <a:off x="4654440" y="43210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Text Box 34"/>
            <p:cNvSpPr/>
            <p:nvPr/>
          </p:nvSpPr>
          <p:spPr>
            <a:xfrm>
              <a:off x="5099760" y="4194000"/>
              <a:ext cx="4053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Nombreuses heures de travai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Group 35"/>
          <p:cNvGrpSpPr/>
          <p:nvPr/>
        </p:nvGrpSpPr>
        <p:grpSpPr>
          <a:xfrm>
            <a:off x="4643280" y="5019840"/>
            <a:ext cx="2714760" cy="459720"/>
            <a:chOff x="4643280" y="5019840"/>
            <a:chExt cx="2714760" cy="459720"/>
          </a:xfrm>
        </p:grpSpPr>
        <p:sp>
          <p:nvSpPr>
            <p:cNvPr id="371" name="Rectangle 36"/>
            <p:cNvSpPr/>
            <p:nvPr/>
          </p:nvSpPr>
          <p:spPr>
            <a:xfrm>
              <a:off x="4643280" y="51339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Text Box 37"/>
            <p:cNvSpPr/>
            <p:nvPr/>
          </p:nvSpPr>
          <p:spPr>
            <a:xfrm>
              <a:off x="5193000" y="5019840"/>
              <a:ext cx="21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e motiver seu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Group 38"/>
          <p:cNvGrpSpPr/>
          <p:nvPr/>
        </p:nvGrpSpPr>
        <p:grpSpPr>
          <a:xfrm>
            <a:off x="4667400" y="5807160"/>
            <a:ext cx="1473120" cy="484920"/>
            <a:chOff x="4667400" y="5807160"/>
            <a:chExt cx="1473120" cy="484920"/>
          </a:xfrm>
        </p:grpSpPr>
        <p:grpSp>
          <p:nvGrpSpPr>
            <p:cNvPr id="374" name="Group 39"/>
            <p:cNvGrpSpPr/>
            <p:nvPr/>
          </p:nvGrpSpPr>
          <p:grpSpPr>
            <a:xfrm>
              <a:off x="4667400" y="5807160"/>
              <a:ext cx="832680" cy="457200"/>
              <a:chOff x="4667400" y="5807160"/>
              <a:chExt cx="832680" cy="457200"/>
            </a:xfrm>
          </p:grpSpPr>
          <p:sp>
            <p:nvSpPr>
              <p:cNvPr id="375" name="Rectangle 40"/>
              <p:cNvSpPr/>
              <p:nvPr/>
            </p:nvSpPr>
            <p:spPr>
              <a:xfrm>
                <a:off x="4667400" y="5921640"/>
                <a:ext cx="228240" cy="228600"/>
              </a:xfrm>
              <a:prstGeom prst="rect">
                <a:avLst/>
              </a:prstGeom>
              <a:solidFill>
                <a:srgbClr val="696464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13500000" blurRad="0" rotWithShape="0">
                  <a:srgbClr val="e9e5d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Text Box 41"/>
              <p:cNvSpPr/>
              <p:nvPr/>
            </p:nvSpPr>
            <p:spPr>
              <a:xfrm>
                <a:off x="5337000" y="5807160"/>
                <a:ext cx="16308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7" name="Rectangle 42"/>
            <p:cNvSpPr/>
            <p:nvPr/>
          </p:nvSpPr>
          <p:spPr>
            <a:xfrm>
              <a:off x="4667400" y="59468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Text Box 43"/>
            <p:cNvSpPr/>
            <p:nvPr/>
          </p:nvSpPr>
          <p:spPr>
            <a:xfrm>
              <a:off x="5290920" y="5832360"/>
              <a:ext cx="84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tc..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9" name="Group 3"/>
          <p:cNvGrpSpPr/>
          <p:nvPr/>
        </p:nvGrpSpPr>
        <p:grpSpPr>
          <a:xfrm>
            <a:off x="423720" y="1673280"/>
            <a:ext cx="6427080" cy="520560"/>
            <a:chOff x="423720" y="1673280"/>
            <a:chExt cx="6427080" cy="520560"/>
          </a:xfrm>
        </p:grpSpPr>
        <p:sp>
          <p:nvSpPr>
            <p:cNvPr id="380" name="AutoShape 4"/>
            <p:cNvSpPr/>
            <p:nvPr/>
          </p:nvSpPr>
          <p:spPr>
            <a:xfrm>
              <a:off x="423720" y="1805040"/>
              <a:ext cx="527760" cy="293760"/>
            </a:xfrm>
            <a:prstGeom prst="rightArrow">
              <a:avLst>
                <a:gd name="adj1" fmla="val 50000"/>
                <a:gd name="adj2" fmla="val 89836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Text Box 5"/>
            <p:cNvSpPr/>
            <p:nvPr/>
          </p:nvSpPr>
          <p:spPr>
            <a:xfrm>
              <a:off x="999360" y="1673280"/>
              <a:ext cx="585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Idée de projet :  idée en relation avec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Group 6"/>
          <p:cNvGrpSpPr/>
          <p:nvPr/>
        </p:nvGrpSpPr>
        <p:grpSpPr>
          <a:xfrm>
            <a:off x="1268280" y="2708280"/>
            <a:ext cx="3898080" cy="459720"/>
            <a:chOff x="1268280" y="2708280"/>
            <a:chExt cx="3898080" cy="459720"/>
          </a:xfrm>
        </p:grpSpPr>
        <p:sp>
          <p:nvSpPr>
            <p:cNvPr id="383" name="Rectangle 7"/>
            <p:cNvSpPr/>
            <p:nvPr/>
          </p:nvSpPr>
          <p:spPr>
            <a:xfrm>
              <a:off x="1268280" y="28353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Text Box 8"/>
            <p:cNvSpPr/>
            <p:nvPr/>
          </p:nvSpPr>
          <p:spPr>
            <a:xfrm>
              <a:off x="1748520" y="2708280"/>
              <a:ext cx="3417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es propres compéten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" name="Group 9"/>
          <p:cNvGrpSpPr/>
          <p:nvPr/>
        </p:nvGrpSpPr>
        <p:grpSpPr>
          <a:xfrm>
            <a:off x="1268280" y="3444840"/>
            <a:ext cx="6899760" cy="459720"/>
            <a:chOff x="1268280" y="3444840"/>
            <a:chExt cx="6899760" cy="459720"/>
          </a:xfrm>
        </p:grpSpPr>
        <p:sp>
          <p:nvSpPr>
            <p:cNvPr id="386" name="Rectangle 10"/>
            <p:cNvSpPr/>
            <p:nvPr/>
          </p:nvSpPr>
          <p:spPr>
            <a:xfrm>
              <a:off x="1268280" y="35589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Text Box 11"/>
            <p:cNvSpPr/>
            <p:nvPr/>
          </p:nvSpPr>
          <p:spPr>
            <a:xfrm>
              <a:off x="1569600" y="3444840"/>
              <a:ext cx="659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es besoins, ceux de sa famille ou de ses relation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Group 12"/>
          <p:cNvGrpSpPr/>
          <p:nvPr/>
        </p:nvGrpSpPr>
        <p:grpSpPr>
          <a:xfrm>
            <a:off x="1246320" y="4956120"/>
            <a:ext cx="6274440" cy="459720"/>
            <a:chOff x="1246320" y="4956120"/>
            <a:chExt cx="6274440" cy="459720"/>
          </a:xfrm>
        </p:grpSpPr>
        <p:sp>
          <p:nvSpPr>
            <p:cNvPr id="389" name="Rectangle 13"/>
            <p:cNvSpPr/>
            <p:nvPr/>
          </p:nvSpPr>
          <p:spPr>
            <a:xfrm>
              <a:off x="1246320" y="508320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Text Box 14"/>
            <p:cNvSpPr/>
            <p:nvPr/>
          </p:nvSpPr>
          <p:spPr>
            <a:xfrm>
              <a:off x="1586880" y="4956120"/>
              <a:ext cx="593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Des produits, des services, de son entourage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Group 15"/>
          <p:cNvGrpSpPr/>
          <p:nvPr/>
        </p:nvGrpSpPr>
        <p:grpSpPr>
          <a:xfrm>
            <a:off x="1279440" y="4168800"/>
            <a:ext cx="8172000" cy="459720"/>
            <a:chOff x="1279440" y="4168800"/>
            <a:chExt cx="8172000" cy="459720"/>
          </a:xfrm>
        </p:grpSpPr>
        <p:sp>
          <p:nvSpPr>
            <p:cNvPr id="392" name="Rectangle 16"/>
            <p:cNvSpPr/>
            <p:nvPr/>
          </p:nvSpPr>
          <p:spPr>
            <a:xfrm>
              <a:off x="1279440" y="42829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Text Box 17"/>
            <p:cNvSpPr/>
            <p:nvPr/>
          </p:nvSpPr>
          <p:spPr>
            <a:xfrm>
              <a:off x="1505880" y="4168800"/>
              <a:ext cx="794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Des sources d’informations ( journaux, télé, Internet, etc…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5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Text Box 2"/>
          <p:cNvSpPr/>
          <p:nvPr/>
        </p:nvSpPr>
        <p:spPr>
          <a:xfrm>
            <a:off x="3473280" y="41580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5" name="Group 3"/>
          <p:cNvGrpSpPr/>
          <p:nvPr/>
        </p:nvGrpSpPr>
        <p:grpSpPr>
          <a:xfrm>
            <a:off x="423720" y="1673280"/>
            <a:ext cx="6718680" cy="520560"/>
            <a:chOff x="423720" y="1673280"/>
            <a:chExt cx="6718680" cy="520560"/>
          </a:xfrm>
        </p:grpSpPr>
        <p:sp>
          <p:nvSpPr>
            <p:cNvPr id="396" name="AutoShape 4"/>
            <p:cNvSpPr/>
            <p:nvPr/>
          </p:nvSpPr>
          <p:spPr>
            <a:xfrm>
              <a:off x="423720" y="1805040"/>
              <a:ext cx="527400" cy="293760"/>
            </a:xfrm>
            <a:prstGeom prst="rightArrow">
              <a:avLst>
                <a:gd name="adj1" fmla="val 50000"/>
                <a:gd name="adj2" fmla="val 89775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 Box 5"/>
            <p:cNvSpPr/>
            <p:nvPr/>
          </p:nvSpPr>
          <p:spPr>
            <a:xfrm>
              <a:off x="978480" y="1673280"/>
              <a:ext cx="6163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Occasion d’affaire : possibilite concrèt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Group 6"/>
          <p:cNvGrpSpPr/>
          <p:nvPr/>
        </p:nvGrpSpPr>
        <p:grpSpPr>
          <a:xfrm>
            <a:off x="1911240" y="2581200"/>
            <a:ext cx="4194720" cy="459720"/>
            <a:chOff x="1911240" y="2581200"/>
            <a:chExt cx="4194720" cy="459720"/>
          </a:xfrm>
        </p:grpSpPr>
        <p:sp>
          <p:nvSpPr>
            <p:cNvPr id="399" name="Rectangle 7"/>
            <p:cNvSpPr/>
            <p:nvPr/>
          </p:nvSpPr>
          <p:spPr>
            <a:xfrm>
              <a:off x="1911240" y="27082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Text Box 8"/>
            <p:cNvSpPr/>
            <p:nvPr/>
          </p:nvSpPr>
          <p:spPr>
            <a:xfrm>
              <a:off x="2371320" y="2581200"/>
              <a:ext cx="3734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Qui peut se commercialis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1" name="Group 9"/>
          <p:cNvGrpSpPr/>
          <p:nvPr/>
        </p:nvGrpSpPr>
        <p:grpSpPr>
          <a:xfrm>
            <a:off x="1968480" y="4702320"/>
            <a:ext cx="3162600" cy="459720"/>
            <a:chOff x="1968480" y="4702320"/>
            <a:chExt cx="3162600" cy="459720"/>
          </a:xfrm>
        </p:grpSpPr>
        <p:sp>
          <p:nvSpPr>
            <p:cNvPr id="402" name="Rectangle 10"/>
            <p:cNvSpPr/>
            <p:nvPr/>
          </p:nvSpPr>
          <p:spPr>
            <a:xfrm>
              <a:off x="1968480" y="48164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Text Box 11"/>
            <p:cNvSpPr/>
            <p:nvPr/>
          </p:nvSpPr>
          <p:spPr>
            <a:xfrm>
              <a:off x="2490480" y="4702320"/>
              <a:ext cx="264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Qui doit permett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4" name="Text Box 12"/>
          <p:cNvSpPr/>
          <p:nvPr/>
        </p:nvSpPr>
        <p:spPr>
          <a:xfrm>
            <a:off x="2247480" y="3354480"/>
            <a:ext cx="47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à un prix acceptable pour le consommateu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13"/>
          <p:cNvSpPr/>
          <p:nvPr/>
        </p:nvSpPr>
        <p:spPr>
          <a:xfrm>
            <a:off x="2300400" y="3811680"/>
            <a:ext cx="385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à un prix rentable pour le vendeu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14"/>
          <p:cNvSpPr/>
          <p:nvPr/>
        </p:nvSpPr>
        <p:spPr>
          <a:xfrm>
            <a:off x="2354040" y="5386320"/>
            <a:ext cx="292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 résoudre un problèm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15"/>
          <p:cNvSpPr/>
          <p:nvPr/>
        </p:nvSpPr>
        <p:spPr>
          <a:xfrm>
            <a:off x="2363040" y="5843520"/>
            <a:ext cx="277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 répondre à un beso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2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ext Box 2"/>
          <p:cNvSpPr/>
          <p:nvPr/>
        </p:nvSpPr>
        <p:spPr>
          <a:xfrm>
            <a:off x="1435320" y="434880"/>
            <a:ext cx="6573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9900"/>
                </a:solidFill>
                <a:latin typeface="Times New Roman"/>
              </a:rPr>
              <a:t>Elaboration du plan d’affai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9" name="Group 3"/>
          <p:cNvGrpSpPr/>
          <p:nvPr/>
        </p:nvGrpSpPr>
        <p:grpSpPr>
          <a:xfrm>
            <a:off x="677880" y="2028960"/>
            <a:ext cx="3573000" cy="1373760"/>
            <a:chOff x="677880" y="2028960"/>
            <a:chExt cx="3573000" cy="1373760"/>
          </a:xfrm>
        </p:grpSpPr>
        <p:sp>
          <p:nvSpPr>
            <p:cNvPr id="410" name="AutoShape 4"/>
            <p:cNvSpPr/>
            <p:nvPr/>
          </p:nvSpPr>
          <p:spPr>
            <a:xfrm>
              <a:off x="677880" y="2160720"/>
              <a:ext cx="528480" cy="293760"/>
            </a:xfrm>
            <a:prstGeom prst="rightArrow">
              <a:avLst>
                <a:gd name="adj1" fmla="val 50000"/>
                <a:gd name="adj2" fmla="val 89959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Text Box 5"/>
            <p:cNvSpPr/>
            <p:nvPr/>
          </p:nvSpPr>
          <p:spPr>
            <a:xfrm>
              <a:off x="1592280" y="2028960"/>
              <a:ext cx="265860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Etude techniqu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Etude juridiqu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2" name="Group 6"/>
          <p:cNvGrpSpPr/>
          <p:nvPr/>
        </p:nvGrpSpPr>
        <p:grpSpPr>
          <a:xfrm>
            <a:off x="611280" y="3789360"/>
            <a:ext cx="3924720" cy="520560"/>
            <a:chOff x="611280" y="3789360"/>
            <a:chExt cx="3924720" cy="520560"/>
          </a:xfrm>
        </p:grpSpPr>
        <p:sp>
          <p:nvSpPr>
            <p:cNvPr id="413" name="AutoShape 7"/>
            <p:cNvSpPr/>
            <p:nvPr/>
          </p:nvSpPr>
          <p:spPr>
            <a:xfrm>
              <a:off x="611280" y="3921120"/>
              <a:ext cx="527760" cy="293760"/>
            </a:xfrm>
            <a:prstGeom prst="rightArrow">
              <a:avLst>
                <a:gd name="adj1" fmla="val 50000"/>
                <a:gd name="adj2" fmla="val 89836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Text Box 8"/>
            <p:cNvSpPr/>
            <p:nvPr/>
          </p:nvSpPr>
          <p:spPr>
            <a:xfrm>
              <a:off x="1334880" y="3789360"/>
              <a:ext cx="320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Etude de marketin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5" name="Group 9"/>
          <p:cNvGrpSpPr/>
          <p:nvPr/>
        </p:nvGrpSpPr>
        <p:grpSpPr>
          <a:xfrm>
            <a:off x="684360" y="4581360"/>
            <a:ext cx="3447360" cy="520560"/>
            <a:chOff x="684360" y="4581360"/>
            <a:chExt cx="3447360" cy="520560"/>
          </a:xfrm>
        </p:grpSpPr>
        <p:sp>
          <p:nvSpPr>
            <p:cNvPr id="416" name="AutoShape 10"/>
            <p:cNvSpPr/>
            <p:nvPr/>
          </p:nvSpPr>
          <p:spPr>
            <a:xfrm>
              <a:off x="684360" y="4713120"/>
              <a:ext cx="528120" cy="293760"/>
            </a:xfrm>
            <a:prstGeom prst="rightArrow">
              <a:avLst>
                <a:gd name="adj1" fmla="val 50000"/>
                <a:gd name="adj2" fmla="val 89898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Text Box 11"/>
            <p:cNvSpPr/>
            <p:nvPr/>
          </p:nvSpPr>
          <p:spPr>
            <a:xfrm>
              <a:off x="1434960" y="4581360"/>
              <a:ext cx="2696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Etude financièr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Text Box 12"/>
          <p:cNvSpPr/>
          <p:nvPr/>
        </p:nvSpPr>
        <p:spPr>
          <a:xfrm>
            <a:off x="4867200" y="504504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44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1619280" y="414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600" spc="-1" strike="noStrike">
              <a:solidFill>
                <a:srgbClr val="696464"/>
              </a:solidFill>
              <a:latin typeface="Perpetu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title"/>
          </p:nvPr>
        </p:nvSpPr>
        <p:spPr>
          <a:xfrm>
            <a:off x="971640" y="220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000000"/>
                </a:solidFill>
                <a:latin typeface="Franklin Gothic Book"/>
              </a:rPr>
              <a:t>Qu’est-ce qu’être entrepreneur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6T11:23:26Z</dcterms:created>
  <dc:creator>Benchekara</dc:creator>
  <dc:description/>
  <dc:language>en-US</dc:language>
  <cp:lastModifiedBy>bureau65</cp:lastModifiedBy>
  <dcterms:modified xsi:type="dcterms:W3CDTF">2016-12-09T15:36:16Z</dcterms:modified>
  <cp:revision>11</cp:revision>
  <dc:subject/>
  <dc:title>Diapositive 1</dc:title>
</cp:coreProperties>
</file>