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4D1E-4010-4AFD-806C-C9C0C3193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CD90-5148-4401-BD42-85C901EC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4A12-5FAD-4278-ADF1-271CF6974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8C1D-3A20-4817-9AB6-E6AD405E9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DB7A-5B80-4887-84E7-22B8D9938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DF00-EAD7-448F-879A-F8DA9951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EBD8-7570-4B22-AE5B-CB879AB0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4909-FCC3-42A3-BE15-A785338F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B24F-8C6A-4EBF-A5B6-6547B23D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91AD-C0B9-497A-8463-201BC9AF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3D86-A0DA-4063-A401-A3A24DA2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773E-C6CC-4B1E-9DDA-03A6F634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C9B0-2623-4F49-8786-2191A47E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568B-18EB-4BC8-B393-9FDCF7CE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64EC-B508-4BB3-9457-5DA630D4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B354-EC87-4968-BFF9-98A6482F3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5BF5A-026A-4897-BC3E-E2E083191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E1145-F08F-4B77-AB9F-C7D61D8F4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8C16A-2C0B-4B8C-901D-FC71ED41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DCED9-FD10-47FF-88C4-E99E8612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74DD5-60C6-4314-9F23-F355E3B1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38091-8D65-434E-A04F-F41BFE52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1385-3CE2-4119-B407-6B76CDF7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2BB86-8CA0-4BB9-A2B3-299975B6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6F132-666F-4AF4-AB1D-771C7679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DE1F1-EEAA-40AE-9183-BFB4C4E0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03B86-669D-45F8-A9FE-A725127A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7150D-5FA7-4A57-A1EF-AFE34277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EC6DF-085D-494D-BCAD-0C9A087F7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27BBF-09BC-4091-B24E-97B4B15D0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0465F-2A30-424A-9849-FF7DB01D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4B6E0-504A-42F9-A63B-FB351600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05932-AB7E-4775-8CA3-1FB6B689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F277-261A-4A40-8D15-DA060B1D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F4520-4501-45CB-9AD8-5D264523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313F5-42B6-41C0-B8DE-E633C696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B87BA-6A67-487F-A416-A45A4DC3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F01EE-F82D-4B6C-99BE-44A5D712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06C71-CCDF-40F1-BC9B-4F4C5258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5F488-B4AA-4D0D-89A9-92164C34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33362-BC3B-4FCF-A4C6-FBD52B65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8041F-37A0-4363-A175-3FD76F08C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57DC8-0634-43AC-88AB-B24BC7039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7D7BA-85FF-4B30-AAAE-D87DC8831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2349-78A1-4ED0-8AA3-2BD1917B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7C09C-3B91-4DA8-8D70-E7F501F2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BA5A8-8A75-448E-9147-C8201712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48399-4EA6-46FC-BBD3-C6D2248C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AE5FD-155F-4E72-A218-15DC6CB5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1819E-69CA-42E6-B814-FBF304D7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58832-7836-4E97-8857-67556CE7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9E78A-998B-4516-9D7F-AB17449D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A8781-9D9D-4A99-BC9D-ACD23930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6CC82-EBCB-4B34-9355-A2160EFA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E6889-A89B-4D96-8E11-70A13E4F4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D9D7-CDEC-4517-90BF-0556AE1E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9EBE4-176E-41B4-A5E5-AAEBF5D30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5385-7361-4C1F-BB3A-4D950ECA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3B43-AB4A-4791-B24F-D585F3A5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7DBF-2E4F-46A2-8DF0-276ACA39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7B74-E7B9-468B-A24E-B6ACE281A94A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2D1B-788C-43C2-8D04-2C801610C6D8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ctangle à coins arrondis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ectangle à coins arrondis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9132-1F32-4826-9AD9-D38F00402918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à coins arrond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E287-D428-4EEB-A0BF-8596D8919955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D4E6-9FF0-47C7-A8BC-BA78A558483B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696464"/>
                </a:solidFill>
                <a:latin typeface="Perpetua"/>
              </a:rPr>
              <a:t>Le profil de l’entrepreneur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Franklin Gothic Book"/>
              </a:rPr>
              <a:t>Chapitre 1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755280" y="5516280"/>
            <a:ext cx="373860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"/>
          <p:cNvSpPr txBox="1"/>
          <p:nvPr/>
        </p:nvSpPr>
        <p:spPr>
          <a:xfrm rot="10800000">
            <a:off x="4788000" y="5491080"/>
            <a:ext cx="397008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755640" y="2852640"/>
            <a:ext cx="768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ntrepreneur met en place des moyens pour exploiter une occasion d’affaires et ainsi réaliser certaines aspirations person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84000" y="3282840"/>
            <a:ext cx="380988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ssume le risqu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ravaille beaucou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ten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gage à long ter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ime l’a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43280" y="3357720"/>
            <a:ext cx="4114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créat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Décide sans tout savoi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Veut être son propre patr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auton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lles compétences doit-il maîtrise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 du secteur d’activit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s en ges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fiance en so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Énergie et pas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olérance au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adapte au chang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apacité à s’entourer et à écou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Identifie les occasions d’affair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çoit et réalise des v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toure et gère les ressources humain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Met en marché et ve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rend des déc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Fait fonctionner la produ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les financ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son réseau de contac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Homme-orchest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Entrepreneur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ou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travailleur autonome?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a6363"/>
                </a:solidFill>
                <a:latin typeface="Franklin Gothic Book"/>
              </a:rPr>
              <a:t>Entrepreneur vs travailleur autonom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934560" y="2420640"/>
            <a:ext cx="820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Perpetua"/>
              </a:rPr>
              <a:t>Travailleur autonom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Grande importance accordée à l’autonomie et l’indépend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Recherche la flexibilité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Désire valoriser son travai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eut se concentrer uniquement sur ce qu’il ai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ntrepreneu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ise principalement la croiss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ar choix ou par obligatio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6a6363"/>
                </a:solidFill>
                <a:latin typeface="Franklin Gothic Book"/>
              </a:rPr>
              <a:t>Savez-vous dans quoi vous vous embarquez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705636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80% travaillent plus de 50h/semaine vs 14% des salarié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La moitié consacrent plus de 60h/semaine à leur entrepri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eulement 30% des entrepreneurs se rendent à la cinquième année d’existe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Nombre d’entreprises démarrées avant d’atteindre le succè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6a6363"/>
                </a:solidFill>
                <a:latin typeface="Rockwell Condensed"/>
              </a:rPr>
              <a:t>5. Parcours d’un jeune entrepreneur</a:t>
            </a:r>
            <a:br>
              <a:rPr sz="3600"/>
            </a:b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93520" y="928800"/>
            <a:ext cx="8250120" cy="5806800"/>
          </a:xfrm>
          <a:prstGeom prst="rect">
            <a:avLst/>
          </a:prstGeom>
          <a:solidFill>
            <a:srgbClr val="ef8c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3 principales phase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ré-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préalable du projet (Etudes de faisabilité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laboration du BP (plan d’affaire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cherche de financement et négociation avec les partenaires financiers ou autr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intermédiai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ccomplissement des formalités juridiqu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ost - 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Gestion des obligations social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Mise en place des outils de gestion (Tableaux de bord, comptabilité analytique, etc.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Organisation et gestion administrative et comptab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relative aux premiers mois d’activité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38420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eur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47760" y="1457280"/>
            <a:ext cx="8034120" cy="520560"/>
            <a:chOff x="347760" y="1457280"/>
            <a:chExt cx="8034120" cy="520560"/>
          </a:xfrm>
        </p:grpSpPr>
        <p:sp>
          <p:nvSpPr>
            <p:cNvPr id="232" name="AutoShape 4"/>
            <p:cNvSpPr/>
            <p:nvPr/>
          </p:nvSpPr>
          <p:spPr>
            <a:xfrm>
              <a:off x="347760" y="1589040"/>
              <a:ext cx="527040" cy="293760"/>
            </a:xfrm>
            <a:prstGeom prst="rightArrow">
              <a:avLst>
                <a:gd name="adj1" fmla="val 50000"/>
                <a:gd name="adj2" fmla="val 89714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"/>
            <p:cNvSpPr/>
            <p:nvPr/>
          </p:nvSpPr>
          <p:spPr>
            <a:xfrm>
              <a:off x="829440" y="1457280"/>
              <a:ext cx="755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ntécédents personnels: famille d’entreprene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6"/>
          <p:cNvGrpSpPr/>
          <p:nvPr/>
        </p:nvGrpSpPr>
        <p:grpSpPr>
          <a:xfrm>
            <a:off x="347760" y="2114640"/>
            <a:ext cx="2788920" cy="520560"/>
            <a:chOff x="347760" y="2114640"/>
            <a:chExt cx="2788920" cy="520560"/>
          </a:xfrm>
        </p:grpSpPr>
        <p:sp>
          <p:nvSpPr>
            <p:cNvPr id="235" name="AutoShape 7"/>
            <p:cNvSpPr/>
            <p:nvPr/>
          </p:nvSpPr>
          <p:spPr>
            <a:xfrm>
              <a:off x="347760" y="224640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1134720" y="2114640"/>
              <a:ext cx="200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Motiva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9"/>
          <p:cNvGrpSpPr/>
          <p:nvPr/>
        </p:nvGrpSpPr>
        <p:grpSpPr>
          <a:xfrm>
            <a:off x="347760" y="4241880"/>
            <a:ext cx="5293080" cy="520560"/>
            <a:chOff x="347760" y="4241880"/>
            <a:chExt cx="5293080" cy="520560"/>
          </a:xfrm>
        </p:grpSpPr>
        <p:sp>
          <p:nvSpPr>
            <p:cNvPr id="238" name="AutoShape 10"/>
            <p:cNvSpPr/>
            <p:nvPr/>
          </p:nvSpPr>
          <p:spPr>
            <a:xfrm>
              <a:off x="347760" y="43736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1"/>
            <p:cNvSpPr/>
            <p:nvPr/>
          </p:nvSpPr>
          <p:spPr>
            <a:xfrm>
              <a:off x="988560" y="4241880"/>
              <a:ext cx="465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aractéristiques personnel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2"/>
          <p:cNvGrpSpPr/>
          <p:nvPr/>
        </p:nvGrpSpPr>
        <p:grpSpPr>
          <a:xfrm>
            <a:off x="819000" y="2593800"/>
            <a:ext cx="4067640" cy="459720"/>
            <a:chOff x="819000" y="2593800"/>
            <a:chExt cx="4067640" cy="459720"/>
          </a:xfrm>
        </p:grpSpPr>
        <p:sp>
          <p:nvSpPr>
            <p:cNvPr id="241" name="Rectangle 13"/>
            <p:cNvSpPr/>
            <p:nvPr/>
          </p:nvSpPr>
          <p:spPr>
            <a:xfrm>
              <a:off x="819000" y="27208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4"/>
            <p:cNvSpPr/>
            <p:nvPr/>
          </p:nvSpPr>
          <p:spPr>
            <a:xfrm>
              <a:off x="1289160" y="2593800"/>
              <a:ext cx="359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ccomplis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5"/>
          <p:cNvGrpSpPr/>
          <p:nvPr/>
        </p:nvGrpSpPr>
        <p:grpSpPr>
          <a:xfrm>
            <a:off x="819000" y="3076560"/>
            <a:ext cx="3050280" cy="459720"/>
            <a:chOff x="819000" y="3076560"/>
            <a:chExt cx="3050280" cy="459720"/>
          </a:xfrm>
        </p:grpSpPr>
        <p:sp>
          <p:nvSpPr>
            <p:cNvPr id="244" name="Rectangle 16"/>
            <p:cNvSpPr/>
            <p:nvPr/>
          </p:nvSpPr>
          <p:spPr>
            <a:xfrm>
              <a:off x="819000" y="31906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7"/>
            <p:cNvSpPr/>
            <p:nvPr/>
          </p:nvSpPr>
          <p:spPr>
            <a:xfrm>
              <a:off x="1350720" y="3076560"/>
              <a:ext cx="251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e pouvo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8"/>
          <p:cNvGrpSpPr/>
          <p:nvPr/>
        </p:nvGrpSpPr>
        <p:grpSpPr>
          <a:xfrm>
            <a:off x="819000" y="3571920"/>
            <a:ext cx="3283200" cy="459720"/>
            <a:chOff x="819000" y="3571920"/>
            <a:chExt cx="3283200" cy="459720"/>
          </a:xfrm>
        </p:grpSpPr>
        <p:sp>
          <p:nvSpPr>
            <p:cNvPr id="247" name="Rectangle 19"/>
            <p:cNvSpPr/>
            <p:nvPr/>
          </p:nvSpPr>
          <p:spPr>
            <a:xfrm>
              <a:off x="819000" y="36864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0"/>
            <p:cNvSpPr/>
            <p:nvPr/>
          </p:nvSpPr>
          <p:spPr>
            <a:xfrm>
              <a:off x="1336680" y="3571920"/>
              <a:ext cx="276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utonom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1"/>
          <p:cNvGrpSpPr/>
          <p:nvPr/>
        </p:nvGrpSpPr>
        <p:grpSpPr>
          <a:xfrm>
            <a:off x="785880" y="4753080"/>
            <a:ext cx="2858400" cy="459720"/>
            <a:chOff x="785880" y="4753080"/>
            <a:chExt cx="2858400" cy="459720"/>
          </a:xfrm>
        </p:grpSpPr>
        <p:sp>
          <p:nvSpPr>
            <p:cNvPr id="250" name="Rectangle 22"/>
            <p:cNvSpPr/>
            <p:nvPr/>
          </p:nvSpPr>
          <p:spPr>
            <a:xfrm>
              <a:off x="7858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3"/>
            <p:cNvSpPr/>
            <p:nvPr/>
          </p:nvSpPr>
          <p:spPr>
            <a:xfrm>
              <a:off x="1328400" y="475308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onfiance en so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4"/>
          <p:cNvGrpSpPr/>
          <p:nvPr/>
        </p:nvGrpSpPr>
        <p:grpSpPr>
          <a:xfrm>
            <a:off x="785880" y="5235480"/>
            <a:ext cx="2473200" cy="459720"/>
            <a:chOff x="785880" y="5235480"/>
            <a:chExt cx="2473200" cy="459720"/>
          </a:xfrm>
        </p:grpSpPr>
        <p:sp>
          <p:nvSpPr>
            <p:cNvPr id="253" name="Rectangle 25"/>
            <p:cNvSpPr/>
            <p:nvPr/>
          </p:nvSpPr>
          <p:spPr>
            <a:xfrm>
              <a:off x="7858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6"/>
            <p:cNvSpPr/>
            <p:nvPr/>
          </p:nvSpPr>
          <p:spPr>
            <a:xfrm>
              <a:off x="1350000" y="5235480"/>
              <a:ext cx="190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ersévér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7"/>
          <p:cNvGrpSpPr/>
          <p:nvPr/>
        </p:nvGrpSpPr>
        <p:grpSpPr>
          <a:xfrm>
            <a:off x="785880" y="5730840"/>
            <a:ext cx="1801080" cy="459720"/>
            <a:chOff x="785880" y="5730840"/>
            <a:chExt cx="1801080" cy="459720"/>
          </a:xfrm>
        </p:grpSpPr>
        <p:sp>
          <p:nvSpPr>
            <p:cNvPr id="256" name="Rectangle 28"/>
            <p:cNvSpPr/>
            <p:nvPr/>
          </p:nvSpPr>
          <p:spPr>
            <a:xfrm>
              <a:off x="7858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9"/>
            <p:cNvSpPr/>
            <p:nvPr/>
          </p:nvSpPr>
          <p:spPr>
            <a:xfrm>
              <a:off x="1389600" y="573084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nerg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0"/>
          <p:cNvGrpSpPr/>
          <p:nvPr/>
        </p:nvGrpSpPr>
        <p:grpSpPr>
          <a:xfrm>
            <a:off x="4726080" y="4753080"/>
            <a:ext cx="3210120" cy="459720"/>
            <a:chOff x="4726080" y="4753080"/>
            <a:chExt cx="3210120" cy="459720"/>
          </a:xfrm>
        </p:grpSpPr>
        <p:sp>
          <p:nvSpPr>
            <p:cNvPr id="259" name="Rectangle 31"/>
            <p:cNvSpPr/>
            <p:nvPr/>
          </p:nvSpPr>
          <p:spPr>
            <a:xfrm>
              <a:off x="47260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32"/>
            <p:cNvSpPr/>
            <p:nvPr/>
          </p:nvSpPr>
          <p:spPr>
            <a:xfrm>
              <a:off x="5247000" y="4753080"/>
              <a:ext cx="268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olérance au st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33"/>
          <p:cNvGrpSpPr/>
          <p:nvPr/>
        </p:nvGrpSpPr>
        <p:grpSpPr>
          <a:xfrm>
            <a:off x="4726080" y="5235480"/>
            <a:ext cx="3170520" cy="459720"/>
            <a:chOff x="4726080" y="5235480"/>
            <a:chExt cx="3170520" cy="459720"/>
          </a:xfrm>
        </p:grpSpPr>
        <p:sp>
          <p:nvSpPr>
            <p:cNvPr id="262" name="Rectangle 34"/>
            <p:cNvSpPr/>
            <p:nvPr/>
          </p:nvSpPr>
          <p:spPr>
            <a:xfrm>
              <a:off x="47260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5"/>
            <p:cNvSpPr/>
            <p:nvPr/>
          </p:nvSpPr>
          <p:spPr>
            <a:xfrm>
              <a:off x="5249880" y="5235480"/>
              <a:ext cx="26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pacité d’analy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6"/>
          <p:cNvGrpSpPr/>
          <p:nvPr/>
        </p:nvGrpSpPr>
        <p:grpSpPr>
          <a:xfrm>
            <a:off x="4726080" y="5730840"/>
            <a:ext cx="2986200" cy="459720"/>
            <a:chOff x="4726080" y="5730840"/>
            <a:chExt cx="2986200" cy="459720"/>
          </a:xfrm>
        </p:grpSpPr>
        <p:sp>
          <p:nvSpPr>
            <p:cNvPr id="265" name="Rectangle 37"/>
            <p:cNvSpPr/>
            <p:nvPr/>
          </p:nvSpPr>
          <p:spPr>
            <a:xfrm>
              <a:off x="47260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8"/>
            <p:cNvSpPr/>
            <p:nvPr/>
          </p:nvSpPr>
          <p:spPr>
            <a:xfrm>
              <a:off x="5259240" y="5730840"/>
              <a:ext cx="24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ns de créativ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38456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ariales (sui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369720" y="1568520"/>
            <a:ext cx="2396880" cy="520560"/>
            <a:chOff x="369720" y="1568520"/>
            <a:chExt cx="2396880" cy="520560"/>
          </a:xfrm>
        </p:grpSpPr>
        <p:sp>
          <p:nvSpPr>
            <p:cNvPr id="269" name="AutoShape 4"/>
            <p:cNvSpPr/>
            <p:nvPr/>
          </p:nvSpPr>
          <p:spPr>
            <a:xfrm>
              <a:off x="369720" y="170028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"/>
            <p:cNvSpPr/>
            <p:nvPr/>
          </p:nvSpPr>
          <p:spPr>
            <a:xfrm>
              <a:off x="1182240" y="156852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ttitu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6"/>
          <p:cNvGrpSpPr/>
          <p:nvPr/>
        </p:nvGrpSpPr>
        <p:grpSpPr>
          <a:xfrm>
            <a:off x="347760" y="3327480"/>
            <a:ext cx="3383640" cy="520560"/>
            <a:chOff x="347760" y="3327480"/>
            <a:chExt cx="3383640" cy="520560"/>
          </a:xfrm>
        </p:grpSpPr>
        <p:sp>
          <p:nvSpPr>
            <p:cNvPr id="272" name="AutoShape 7"/>
            <p:cNvSpPr/>
            <p:nvPr/>
          </p:nvSpPr>
          <p:spPr>
            <a:xfrm>
              <a:off x="347760" y="34592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1103040" y="3327480"/>
              <a:ext cx="26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omportem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9"/>
          <p:cNvGrpSpPr/>
          <p:nvPr/>
        </p:nvGrpSpPr>
        <p:grpSpPr>
          <a:xfrm>
            <a:off x="843120" y="2149560"/>
            <a:ext cx="4807440" cy="459720"/>
            <a:chOff x="843120" y="2149560"/>
            <a:chExt cx="4807440" cy="459720"/>
          </a:xfrm>
        </p:grpSpPr>
        <p:sp>
          <p:nvSpPr>
            <p:cNvPr id="275" name="Rectangle 10"/>
            <p:cNvSpPr/>
            <p:nvPr/>
          </p:nvSpPr>
          <p:spPr>
            <a:xfrm>
              <a:off x="843120" y="22766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1"/>
            <p:cNvSpPr/>
            <p:nvPr/>
          </p:nvSpPr>
          <p:spPr>
            <a:xfrm>
              <a:off x="1266480" y="2149560"/>
              <a:ext cx="43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Ouverture face à la concurr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12"/>
          <p:cNvGrpSpPr/>
          <p:nvPr/>
        </p:nvGrpSpPr>
        <p:grpSpPr>
          <a:xfrm>
            <a:off x="843120" y="2631960"/>
            <a:ext cx="3578040" cy="459720"/>
            <a:chOff x="843120" y="2631960"/>
            <a:chExt cx="3578040" cy="459720"/>
          </a:xfrm>
        </p:grpSpPr>
        <p:sp>
          <p:nvSpPr>
            <p:cNvPr id="278" name="Rectangle 13"/>
            <p:cNvSpPr/>
            <p:nvPr/>
          </p:nvSpPr>
          <p:spPr>
            <a:xfrm>
              <a:off x="843120" y="2746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4"/>
            <p:cNvSpPr/>
            <p:nvPr/>
          </p:nvSpPr>
          <p:spPr>
            <a:xfrm>
              <a:off x="1343160" y="2631960"/>
              <a:ext cx="30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ision du chan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5"/>
          <p:cNvGrpSpPr/>
          <p:nvPr/>
        </p:nvGrpSpPr>
        <p:grpSpPr>
          <a:xfrm>
            <a:off x="819000" y="3838680"/>
            <a:ext cx="2043000" cy="459720"/>
            <a:chOff x="819000" y="3838680"/>
            <a:chExt cx="2043000" cy="459720"/>
          </a:xfrm>
        </p:grpSpPr>
        <p:sp>
          <p:nvSpPr>
            <p:cNvPr id="281" name="Rectangle 16"/>
            <p:cNvSpPr/>
            <p:nvPr/>
          </p:nvSpPr>
          <p:spPr>
            <a:xfrm>
              <a:off x="819000" y="39657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7"/>
            <p:cNvSpPr/>
            <p:nvPr/>
          </p:nvSpPr>
          <p:spPr>
            <a:xfrm>
              <a:off x="1410120" y="383868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ath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819000" y="4321080"/>
            <a:ext cx="2331000" cy="459720"/>
            <a:chOff x="819000" y="4321080"/>
            <a:chExt cx="2331000" cy="459720"/>
          </a:xfrm>
        </p:grpSpPr>
        <p:sp>
          <p:nvSpPr>
            <p:cNvPr id="284" name="Rectangle 19"/>
            <p:cNvSpPr/>
            <p:nvPr/>
          </p:nvSpPr>
          <p:spPr>
            <a:xfrm>
              <a:off x="819000" y="443520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0"/>
            <p:cNvSpPr/>
            <p:nvPr/>
          </p:nvSpPr>
          <p:spPr>
            <a:xfrm>
              <a:off x="1393560" y="4321080"/>
              <a:ext cx="175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Leader-s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1"/>
          <p:cNvGrpSpPr/>
          <p:nvPr/>
        </p:nvGrpSpPr>
        <p:grpSpPr>
          <a:xfrm>
            <a:off x="819000" y="4816440"/>
            <a:ext cx="2610720" cy="459720"/>
            <a:chOff x="819000" y="4816440"/>
            <a:chExt cx="2610720" cy="459720"/>
          </a:xfrm>
        </p:grpSpPr>
        <p:sp>
          <p:nvSpPr>
            <p:cNvPr id="287" name="Rectangle 22"/>
            <p:cNvSpPr/>
            <p:nvPr/>
          </p:nvSpPr>
          <p:spPr>
            <a:xfrm>
              <a:off x="819000" y="4930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23"/>
            <p:cNvSpPr/>
            <p:nvPr/>
          </p:nvSpPr>
          <p:spPr>
            <a:xfrm>
              <a:off x="1375920" y="481644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sprit curie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24"/>
          <p:cNvGrpSpPr/>
          <p:nvPr/>
        </p:nvGrpSpPr>
        <p:grpSpPr>
          <a:xfrm>
            <a:off x="819000" y="5248440"/>
            <a:ext cx="3523320" cy="459720"/>
            <a:chOff x="819000" y="5248440"/>
            <a:chExt cx="3523320" cy="459720"/>
          </a:xfrm>
        </p:grpSpPr>
        <p:sp>
          <p:nvSpPr>
            <p:cNvPr id="290" name="Rectangle 25"/>
            <p:cNvSpPr/>
            <p:nvPr/>
          </p:nvSpPr>
          <p:spPr>
            <a:xfrm>
              <a:off x="819000" y="5375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1322280" y="5248440"/>
              <a:ext cx="302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sir d’apprentiss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27"/>
          <p:cNvGrpSpPr/>
          <p:nvPr/>
        </p:nvGrpSpPr>
        <p:grpSpPr>
          <a:xfrm>
            <a:off x="819000" y="5730840"/>
            <a:ext cx="3243600" cy="459720"/>
            <a:chOff x="819000" y="5730840"/>
            <a:chExt cx="3243600" cy="459720"/>
          </a:xfrm>
        </p:grpSpPr>
        <p:sp>
          <p:nvSpPr>
            <p:cNvPr id="293" name="Rectangle 28"/>
            <p:cNvSpPr/>
            <p:nvPr/>
          </p:nvSpPr>
          <p:spPr>
            <a:xfrm>
              <a:off x="819000" y="5844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9"/>
            <p:cNvSpPr/>
            <p:nvPr/>
          </p:nvSpPr>
          <p:spPr>
            <a:xfrm>
              <a:off x="1338480" y="5730840"/>
              <a:ext cx="272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aisie des occa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30"/>
          <p:cNvGrpSpPr/>
          <p:nvPr/>
        </p:nvGrpSpPr>
        <p:grpSpPr>
          <a:xfrm>
            <a:off x="819000" y="6226200"/>
            <a:ext cx="3115440" cy="459720"/>
            <a:chOff x="819000" y="6226200"/>
            <a:chExt cx="3115440" cy="459720"/>
          </a:xfrm>
        </p:grpSpPr>
        <p:sp>
          <p:nvSpPr>
            <p:cNvPr id="296" name="Rectangle 31"/>
            <p:cNvSpPr/>
            <p:nvPr/>
          </p:nvSpPr>
          <p:spPr>
            <a:xfrm>
              <a:off x="819000" y="634068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1345680" y="62262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ise des déci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0911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447840" y="1946160"/>
            <a:ext cx="2513880" cy="459720"/>
            <a:chOff x="447840" y="1946160"/>
            <a:chExt cx="2513880" cy="459720"/>
          </a:xfrm>
        </p:grpSpPr>
        <p:sp>
          <p:nvSpPr>
            <p:cNvPr id="300" name="Rectangle 4"/>
            <p:cNvSpPr/>
            <p:nvPr/>
          </p:nvSpPr>
          <p:spPr>
            <a:xfrm>
              <a:off x="44784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5"/>
            <p:cNvSpPr/>
            <p:nvPr/>
          </p:nvSpPr>
          <p:spPr>
            <a:xfrm>
              <a:off x="1010160" y="1946160"/>
              <a:ext cx="195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venus fix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6"/>
          <p:cNvGrpSpPr/>
          <p:nvPr/>
        </p:nvGrpSpPr>
        <p:grpSpPr>
          <a:xfrm>
            <a:off x="447840" y="2644920"/>
            <a:ext cx="3009600" cy="459720"/>
            <a:chOff x="447840" y="2644920"/>
            <a:chExt cx="3009600" cy="459720"/>
          </a:xfrm>
        </p:grpSpPr>
        <p:sp>
          <p:nvSpPr>
            <p:cNvPr id="303" name="Rectangle 7"/>
            <p:cNvSpPr/>
            <p:nvPr/>
          </p:nvSpPr>
          <p:spPr>
            <a:xfrm>
              <a:off x="4478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"/>
            <p:cNvSpPr/>
            <p:nvPr/>
          </p:nvSpPr>
          <p:spPr>
            <a:xfrm>
              <a:off x="978480" y="2644920"/>
              <a:ext cx="247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otection soci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9"/>
          <p:cNvGrpSpPr/>
          <p:nvPr/>
        </p:nvGrpSpPr>
        <p:grpSpPr>
          <a:xfrm>
            <a:off x="447840" y="3419640"/>
            <a:ext cx="2881440" cy="459720"/>
            <a:chOff x="447840" y="3419640"/>
            <a:chExt cx="2881440" cy="459720"/>
          </a:xfrm>
        </p:grpSpPr>
        <p:sp>
          <p:nvSpPr>
            <p:cNvPr id="306" name="Rectangle 10"/>
            <p:cNvSpPr/>
            <p:nvPr/>
          </p:nvSpPr>
          <p:spPr>
            <a:xfrm>
              <a:off x="4478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1"/>
            <p:cNvSpPr/>
            <p:nvPr/>
          </p:nvSpPr>
          <p:spPr>
            <a:xfrm>
              <a:off x="988920" y="3419640"/>
              <a:ext cx="23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acances pay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12"/>
          <p:cNvSpPr/>
          <p:nvPr/>
        </p:nvSpPr>
        <p:spPr>
          <a:xfrm>
            <a:off x="-268560" y="184320"/>
            <a:ext cx="96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Avantages des statuts salarié et entrepreuneu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75704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4"/>
          <p:cNvGrpSpPr/>
          <p:nvPr/>
        </p:nvGrpSpPr>
        <p:grpSpPr>
          <a:xfrm>
            <a:off x="447840" y="4194000"/>
            <a:ext cx="2817360" cy="459720"/>
            <a:chOff x="447840" y="4194000"/>
            <a:chExt cx="2817360" cy="459720"/>
          </a:xfrm>
        </p:grpSpPr>
        <p:sp>
          <p:nvSpPr>
            <p:cNvPr id="311" name="Rectangle 15"/>
            <p:cNvSpPr/>
            <p:nvPr/>
          </p:nvSpPr>
          <p:spPr>
            <a:xfrm>
              <a:off x="4478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6"/>
            <p:cNvSpPr/>
            <p:nvPr/>
          </p:nvSpPr>
          <p:spPr>
            <a:xfrm>
              <a:off x="992160" y="4194000"/>
              <a:ext cx="227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dre structur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7"/>
          <p:cNvGrpSpPr/>
          <p:nvPr/>
        </p:nvGrpSpPr>
        <p:grpSpPr>
          <a:xfrm>
            <a:off x="447840" y="5019840"/>
            <a:ext cx="4304880" cy="459720"/>
            <a:chOff x="447840" y="5019840"/>
            <a:chExt cx="4304880" cy="459720"/>
          </a:xfrm>
        </p:grpSpPr>
        <p:sp>
          <p:nvSpPr>
            <p:cNvPr id="314" name="Rectangle 18"/>
            <p:cNvSpPr/>
            <p:nvPr/>
          </p:nvSpPr>
          <p:spPr>
            <a:xfrm>
              <a:off x="44784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9"/>
            <p:cNvSpPr/>
            <p:nvPr/>
          </p:nvSpPr>
          <p:spPr>
            <a:xfrm>
              <a:off x="902160" y="5019840"/>
              <a:ext cx="38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ncontre avec les collègu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0"/>
          <p:cNvGrpSpPr/>
          <p:nvPr/>
        </p:nvGrpSpPr>
        <p:grpSpPr>
          <a:xfrm>
            <a:off x="458640" y="5832360"/>
            <a:ext cx="3891240" cy="459720"/>
            <a:chOff x="458640" y="5832360"/>
            <a:chExt cx="3891240" cy="459720"/>
          </a:xfrm>
        </p:grpSpPr>
        <p:sp>
          <p:nvSpPr>
            <p:cNvPr id="317" name="Rectangle 21"/>
            <p:cNvSpPr/>
            <p:nvPr/>
          </p:nvSpPr>
          <p:spPr>
            <a:xfrm>
              <a:off x="45864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2"/>
            <p:cNvSpPr/>
            <p:nvPr/>
          </p:nvSpPr>
          <p:spPr>
            <a:xfrm>
              <a:off x="938160" y="5832360"/>
              <a:ext cx="341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’avanc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23"/>
          <p:cNvGrpSpPr/>
          <p:nvPr/>
        </p:nvGrpSpPr>
        <p:grpSpPr>
          <a:xfrm>
            <a:off x="4849920" y="1895400"/>
            <a:ext cx="4050360" cy="459720"/>
            <a:chOff x="4849920" y="1895400"/>
            <a:chExt cx="4050360" cy="459720"/>
          </a:xfrm>
        </p:grpSpPr>
        <p:sp>
          <p:nvSpPr>
            <p:cNvPr id="320" name="Rectangle 24"/>
            <p:cNvSpPr/>
            <p:nvPr/>
          </p:nvSpPr>
          <p:spPr>
            <a:xfrm>
              <a:off x="484992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5"/>
            <p:cNvSpPr/>
            <p:nvPr/>
          </p:nvSpPr>
          <p:spPr>
            <a:xfrm>
              <a:off x="5322600" y="1895400"/>
              <a:ext cx="357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Autonomie/ indépend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6"/>
          <p:cNvGrpSpPr/>
          <p:nvPr/>
        </p:nvGrpSpPr>
        <p:grpSpPr>
          <a:xfrm>
            <a:off x="4849920" y="2644920"/>
            <a:ext cx="4730400" cy="459720"/>
            <a:chOff x="4849920" y="2644920"/>
            <a:chExt cx="4730400" cy="459720"/>
          </a:xfrm>
        </p:grpSpPr>
        <p:sp>
          <p:nvSpPr>
            <p:cNvPr id="323" name="Rectangle 27"/>
            <p:cNvSpPr/>
            <p:nvPr/>
          </p:nvSpPr>
          <p:spPr>
            <a:xfrm>
              <a:off x="484992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5278680" y="2644920"/>
              <a:ext cx="43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Mettre à profit s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29"/>
          <p:cNvGrpSpPr/>
          <p:nvPr/>
        </p:nvGrpSpPr>
        <p:grpSpPr>
          <a:xfrm>
            <a:off x="4849920" y="3419640"/>
            <a:ext cx="3226320" cy="459720"/>
            <a:chOff x="4849920" y="3419640"/>
            <a:chExt cx="3226320" cy="459720"/>
          </a:xfrm>
        </p:grpSpPr>
        <p:sp>
          <p:nvSpPr>
            <p:cNvPr id="326" name="Rectangle 30"/>
            <p:cNvSpPr/>
            <p:nvPr/>
          </p:nvSpPr>
          <p:spPr>
            <a:xfrm>
              <a:off x="484992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1"/>
            <p:cNvSpPr/>
            <p:nvPr/>
          </p:nvSpPr>
          <p:spPr>
            <a:xfrm>
              <a:off x="5368680" y="3419640"/>
              <a:ext cx="27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iversité du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32"/>
          <p:cNvGrpSpPr/>
          <p:nvPr/>
        </p:nvGrpSpPr>
        <p:grpSpPr>
          <a:xfrm>
            <a:off x="4849920" y="4194000"/>
            <a:ext cx="3858480" cy="825480"/>
            <a:chOff x="4849920" y="4194000"/>
            <a:chExt cx="3858480" cy="825480"/>
          </a:xfrm>
        </p:grpSpPr>
        <p:sp>
          <p:nvSpPr>
            <p:cNvPr id="329" name="Rectangle 33"/>
            <p:cNvSpPr/>
            <p:nvPr/>
          </p:nvSpPr>
          <p:spPr>
            <a:xfrm>
              <a:off x="484992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34"/>
            <p:cNvSpPr/>
            <p:nvPr/>
          </p:nvSpPr>
          <p:spPr>
            <a:xfrm>
              <a:off x="5330160" y="4194000"/>
              <a:ext cx="337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e croissan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économ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35"/>
          <p:cNvGrpSpPr/>
          <p:nvPr/>
        </p:nvGrpSpPr>
        <p:grpSpPr>
          <a:xfrm>
            <a:off x="4838760" y="5019840"/>
            <a:ext cx="2916360" cy="459720"/>
            <a:chOff x="4838760" y="5019840"/>
            <a:chExt cx="2916360" cy="459720"/>
          </a:xfrm>
        </p:grpSpPr>
        <p:sp>
          <p:nvSpPr>
            <p:cNvPr id="332" name="Rectangle 36"/>
            <p:cNvSpPr/>
            <p:nvPr/>
          </p:nvSpPr>
          <p:spPr>
            <a:xfrm>
              <a:off x="48387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37"/>
            <p:cNvSpPr/>
            <p:nvPr/>
          </p:nvSpPr>
          <p:spPr>
            <a:xfrm>
              <a:off x="5376960" y="5019840"/>
              <a:ext cx="237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fits stimul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38"/>
          <p:cNvGrpSpPr/>
          <p:nvPr/>
        </p:nvGrpSpPr>
        <p:grpSpPr>
          <a:xfrm>
            <a:off x="4832280" y="5918040"/>
            <a:ext cx="3697920" cy="459720"/>
            <a:chOff x="4832280" y="5918040"/>
            <a:chExt cx="3697920" cy="459720"/>
          </a:xfrm>
        </p:grpSpPr>
        <p:sp>
          <p:nvSpPr>
            <p:cNvPr id="335" name="Rectangle 39"/>
            <p:cNvSpPr/>
            <p:nvPr/>
          </p:nvSpPr>
          <p:spPr>
            <a:xfrm>
              <a:off x="4832280" y="6032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40"/>
            <p:cNvSpPr/>
            <p:nvPr/>
          </p:nvSpPr>
          <p:spPr>
            <a:xfrm>
              <a:off x="5325840" y="5918040"/>
              <a:ext cx="32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re son propre pat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8967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252360" y="1946160"/>
            <a:ext cx="2754000" cy="459720"/>
            <a:chOff x="252360" y="1946160"/>
            <a:chExt cx="2754000" cy="459720"/>
          </a:xfrm>
        </p:grpSpPr>
        <p:sp>
          <p:nvSpPr>
            <p:cNvPr id="339" name="Rectangle 4"/>
            <p:cNvSpPr/>
            <p:nvPr/>
          </p:nvSpPr>
          <p:spPr>
            <a:xfrm>
              <a:off x="25236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5"/>
            <p:cNvSpPr/>
            <p:nvPr/>
          </p:nvSpPr>
          <p:spPr>
            <a:xfrm>
              <a:off x="800280" y="1946160"/>
              <a:ext cx="220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Faibles reven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6"/>
          <p:cNvGrpSpPr/>
          <p:nvPr/>
        </p:nvGrpSpPr>
        <p:grpSpPr>
          <a:xfrm>
            <a:off x="252360" y="2644920"/>
            <a:ext cx="1818360" cy="459720"/>
            <a:chOff x="252360" y="2644920"/>
            <a:chExt cx="1818360" cy="459720"/>
          </a:xfrm>
        </p:grpSpPr>
        <p:sp>
          <p:nvSpPr>
            <p:cNvPr id="342" name="Rectangle 7"/>
            <p:cNvSpPr/>
            <p:nvPr/>
          </p:nvSpPr>
          <p:spPr>
            <a:xfrm>
              <a:off x="25236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8"/>
            <p:cNvSpPr/>
            <p:nvPr/>
          </p:nvSpPr>
          <p:spPr>
            <a:xfrm>
              <a:off x="856800" y="264492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out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9"/>
          <p:cNvGrpSpPr/>
          <p:nvPr/>
        </p:nvGrpSpPr>
        <p:grpSpPr>
          <a:xfrm>
            <a:off x="252360" y="3419640"/>
            <a:ext cx="3690720" cy="459720"/>
            <a:chOff x="252360" y="3419640"/>
            <a:chExt cx="3690720" cy="459720"/>
          </a:xfrm>
        </p:grpSpPr>
        <p:sp>
          <p:nvSpPr>
            <p:cNvPr id="345" name="Rectangle 10"/>
            <p:cNvSpPr/>
            <p:nvPr/>
          </p:nvSpPr>
          <p:spPr>
            <a:xfrm>
              <a:off x="25236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744840" y="3419640"/>
              <a:ext cx="31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ravail peu intéres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12"/>
          <p:cNvSpPr/>
          <p:nvPr/>
        </p:nvSpPr>
        <p:spPr>
          <a:xfrm>
            <a:off x="602640" y="282600"/>
            <a:ext cx="79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Inconvenients des statuts salarié et entrepreuna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456192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14"/>
          <p:cNvGrpSpPr/>
          <p:nvPr/>
        </p:nvGrpSpPr>
        <p:grpSpPr>
          <a:xfrm>
            <a:off x="252360" y="4194000"/>
            <a:ext cx="2562480" cy="459720"/>
            <a:chOff x="252360" y="4194000"/>
            <a:chExt cx="2562480" cy="459720"/>
          </a:xfrm>
        </p:grpSpPr>
        <p:sp>
          <p:nvSpPr>
            <p:cNvPr id="350" name="Rectangle 15"/>
            <p:cNvSpPr/>
            <p:nvPr/>
          </p:nvSpPr>
          <p:spPr>
            <a:xfrm>
              <a:off x="25236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6"/>
            <p:cNvSpPr/>
            <p:nvPr/>
          </p:nvSpPr>
          <p:spPr>
            <a:xfrm>
              <a:off x="811440" y="4194000"/>
              <a:ext cx="20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lois ra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252360" y="5019840"/>
            <a:ext cx="3665880" cy="825480"/>
            <a:chOff x="252360" y="5019840"/>
            <a:chExt cx="3665880" cy="825480"/>
          </a:xfrm>
        </p:grpSpPr>
        <p:sp>
          <p:nvSpPr>
            <p:cNvPr id="353" name="Rectangle 18"/>
            <p:cNvSpPr/>
            <p:nvPr/>
          </p:nvSpPr>
          <p:spPr>
            <a:xfrm>
              <a:off x="2523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9"/>
            <p:cNvSpPr/>
            <p:nvPr/>
          </p:nvSpPr>
          <p:spPr>
            <a:xfrm>
              <a:off x="745920" y="5019840"/>
              <a:ext cx="31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pendance qui limi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on potenti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20"/>
          <p:cNvGrpSpPr/>
          <p:nvPr/>
        </p:nvGrpSpPr>
        <p:grpSpPr>
          <a:xfrm>
            <a:off x="263520" y="5832360"/>
            <a:ext cx="1474560" cy="459720"/>
            <a:chOff x="263520" y="5832360"/>
            <a:chExt cx="1474560" cy="459720"/>
          </a:xfrm>
        </p:grpSpPr>
        <p:sp>
          <p:nvSpPr>
            <p:cNvPr id="356" name="Rectangle 21"/>
            <p:cNvSpPr/>
            <p:nvPr/>
          </p:nvSpPr>
          <p:spPr>
            <a:xfrm>
              <a:off x="26352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22"/>
            <p:cNvSpPr/>
            <p:nvPr/>
          </p:nvSpPr>
          <p:spPr>
            <a:xfrm>
              <a:off x="88848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23"/>
          <p:cNvGrpSpPr/>
          <p:nvPr/>
        </p:nvGrpSpPr>
        <p:grpSpPr>
          <a:xfrm>
            <a:off x="4654440" y="1895400"/>
            <a:ext cx="3180240" cy="459720"/>
            <a:chOff x="4654440" y="1895400"/>
            <a:chExt cx="3180240" cy="459720"/>
          </a:xfrm>
        </p:grpSpPr>
        <p:sp>
          <p:nvSpPr>
            <p:cNvPr id="359" name="Rectangle 24"/>
            <p:cNvSpPr/>
            <p:nvPr/>
          </p:nvSpPr>
          <p:spPr>
            <a:xfrm>
              <a:off x="465444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25"/>
            <p:cNvSpPr/>
            <p:nvPr/>
          </p:nvSpPr>
          <p:spPr>
            <a:xfrm>
              <a:off x="5178960" y="1895400"/>
              <a:ext cx="26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tress de l’inconn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6"/>
          <p:cNvGrpSpPr/>
          <p:nvPr/>
        </p:nvGrpSpPr>
        <p:grpSpPr>
          <a:xfrm>
            <a:off x="4654440" y="2644920"/>
            <a:ext cx="2043720" cy="459720"/>
            <a:chOff x="4654440" y="2644920"/>
            <a:chExt cx="2043720" cy="459720"/>
          </a:xfrm>
        </p:grpSpPr>
        <p:sp>
          <p:nvSpPr>
            <p:cNvPr id="362" name="Rectangle 27"/>
            <p:cNvSpPr/>
            <p:nvPr/>
          </p:nvSpPr>
          <p:spPr>
            <a:xfrm>
              <a:off x="46544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8"/>
            <p:cNvSpPr/>
            <p:nvPr/>
          </p:nvSpPr>
          <p:spPr>
            <a:xfrm>
              <a:off x="5244840" y="264492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Isol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29"/>
          <p:cNvGrpSpPr/>
          <p:nvPr/>
        </p:nvGrpSpPr>
        <p:grpSpPr>
          <a:xfrm>
            <a:off x="4654440" y="3419640"/>
            <a:ext cx="4290120" cy="459720"/>
            <a:chOff x="4654440" y="3419640"/>
            <a:chExt cx="4290120" cy="459720"/>
          </a:xfrm>
        </p:grpSpPr>
        <p:sp>
          <p:nvSpPr>
            <p:cNvPr id="365" name="Rectangle 30"/>
            <p:cNvSpPr/>
            <p:nvPr/>
          </p:nvSpPr>
          <p:spPr>
            <a:xfrm>
              <a:off x="46544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31"/>
            <p:cNvSpPr/>
            <p:nvPr/>
          </p:nvSpPr>
          <p:spPr>
            <a:xfrm>
              <a:off x="5110920" y="3419640"/>
              <a:ext cx="383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isque de pertes financiè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2"/>
          <p:cNvGrpSpPr/>
          <p:nvPr/>
        </p:nvGrpSpPr>
        <p:grpSpPr>
          <a:xfrm>
            <a:off x="4654440" y="4194000"/>
            <a:ext cx="4498560" cy="459720"/>
            <a:chOff x="4654440" y="4194000"/>
            <a:chExt cx="4498560" cy="459720"/>
          </a:xfrm>
        </p:grpSpPr>
        <p:sp>
          <p:nvSpPr>
            <p:cNvPr id="368" name="Rectangle 33"/>
            <p:cNvSpPr/>
            <p:nvPr/>
          </p:nvSpPr>
          <p:spPr>
            <a:xfrm>
              <a:off x="46544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4"/>
            <p:cNvSpPr/>
            <p:nvPr/>
          </p:nvSpPr>
          <p:spPr>
            <a:xfrm>
              <a:off x="5099760" y="4194000"/>
              <a:ext cx="405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Nombreuses heures de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35"/>
          <p:cNvGrpSpPr/>
          <p:nvPr/>
        </p:nvGrpSpPr>
        <p:grpSpPr>
          <a:xfrm>
            <a:off x="4643280" y="5019840"/>
            <a:ext cx="2714760" cy="459720"/>
            <a:chOff x="4643280" y="5019840"/>
            <a:chExt cx="2714760" cy="459720"/>
          </a:xfrm>
        </p:grpSpPr>
        <p:sp>
          <p:nvSpPr>
            <p:cNvPr id="371" name="Rectangle 36"/>
            <p:cNvSpPr/>
            <p:nvPr/>
          </p:nvSpPr>
          <p:spPr>
            <a:xfrm>
              <a:off x="464328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37"/>
            <p:cNvSpPr/>
            <p:nvPr/>
          </p:nvSpPr>
          <p:spPr>
            <a:xfrm>
              <a:off x="5193000" y="5019840"/>
              <a:ext cx="21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 motiver seu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38"/>
          <p:cNvGrpSpPr/>
          <p:nvPr/>
        </p:nvGrpSpPr>
        <p:grpSpPr>
          <a:xfrm>
            <a:off x="4667400" y="5807160"/>
            <a:ext cx="1473120" cy="484920"/>
            <a:chOff x="4667400" y="5807160"/>
            <a:chExt cx="1473120" cy="484920"/>
          </a:xfrm>
        </p:grpSpPr>
        <p:grpSp>
          <p:nvGrpSpPr>
            <p:cNvPr id="374" name="Group 39"/>
            <p:cNvGrpSpPr/>
            <p:nvPr/>
          </p:nvGrpSpPr>
          <p:grpSpPr>
            <a:xfrm>
              <a:off x="4667400" y="5807160"/>
              <a:ext cx="832680" cy="457200"/>
              <a:chOff x="4667400" y="5807160"/>
              <a:chExt cx="832680" cy="457200"/>
            </a:xfrm>
          </p:grpSpPr>
          <p:sp>
            <p:nvSpPr>
              <p:cNvPr id="375" name="Rectangle 40"/>
              <p:cNvSpPr/>
              <p:nvPr/>
            </p:nvSpPr>
            <p:spPr>
              <a:xfrm>
                <a:off x="4667400" y="5921640"/>
                <a:ext cx="228240" cy="228600"/>
              </a:xfrm>
              <a:prstGeom prst="rect">
                <a:avLst/>
              </a:prstGeom>
              <a:solidFill>
                <a:srgbClr val="696464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e9e5d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41"/>
              <p:cNvSpPr/>
              <p:nvPr/>
            </p:nvSpPr>
            <p:spPr>
              <a:xfrm>
                <a:off x="5337000" y="5807160"/>
                <a:ext cx="163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Rectangle 42"/>
            <p:cNvSpPr/>
            <p:nvPr/>
          </p:nvSpPr>
          <p:spPr>
            <a:xfrm>
              <a:off x="466740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43"/>
            <p:cNvSpPr/>
            <p:nvPr/>
          </p:nvSpPr>
          <p:spPr>
            <a:xfrm>
              <a:off x="529092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3"/>
          <p:cNvGrpSpPr/>
          <p:nvPr/>
        </p:nvGrpSpPr>
        <p:grpSpPr>
          <a:xfrm>
            <a:off x="423720" y="1673280"/>
            <a:ext cx="6427080" cy="520560"/>
            <a:chOff x="423720" y="1673280"/>
            <a:chExt cx="6427080" cy="520560"/>
          </a:xfrm>
        </p:grpSpPr>
        <p:sp>
          <p:nvSpPr>
            <p:cNvPr id="380" name="AutoShape 4"/>
            <p:cNvSpPr/>
            <p:nvPr/>
          </p:nvSpPr>
          <p:spPr>
            <a:xfrm>
              <a:off x="423720" y="180504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5"/>
            <p:cNvSpPr/>
            <p:nvPr/>
          </p:nvSpPr>
          <p:spPr>
            <a:xfrm>
              <a:off x="999360" y="1673280"/>
              <a:ext cx="585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Idée de projet :  idée en relation avec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6"/>
          <p:cNvGrpSpPr/>
          <p:nvPr/>
        </p:nvGrpSpPr>
        <p:grpSpPr>
          <a:xfrm>
            <a:off x="1268280" y="2708280"/>
            <a:ext cx="3898080" cy="459720"/>
            <a:chOff x="1268280" y="2708280"/>
            <a:chExt cx="3898080" cy="459720"/>
          </a:xfrm>
        </p:grpSpPr>
        <p:sp>
          <p:nvSpPr>
            <p:cNvPr id="383" name="Rectangle 7"/>
            <p:cNvSpPr/>
            <p:nvPr/>
          </p:nvSpPr>
          <p:spPr>
            <a:xfrm>
              <a:off x="1268280" y="28353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8"/>
            <p:cNvSpPr/>
            <p:nvPr/>
          </p:nvSpPr>
          <p:spPr>
            <a:xfrm>
              <a:off x="1748520" y="2708280"/>
              <a:ext cx="341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propr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"/>
          <p:cNvGrpSpPr/>
          <p:nvPr/>
        </p:nvGrpSpPr>
        <p:grpSpPr>
          <a:xfrm>
            <a:off x="1268280" y="3444840"/>
            <a:ext cx="6899760" cy="459720"/>
            <a:chOff x="1268280" y="3444840"/>
            <a:chExt cx="6899760" cy="459720"/>
          </a:xfrm>
        </p:grpSpPr>
        <p:sp>
          <p:nvSpPr>
            <p:cNvPr id="386" name="Rectangle 10"/>
            <p:cNvSpPr/>
            <p:nvPr/>
          </p:nvSpPr>
          <p:spPr>
            <a:xfrm>
              <a:off x="1268280" y="3558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1"/>
            <p:cNvSpPr/>
            <p:nvPr/>
          </p:nvSpPr>
          <p:spPr>
            <a:xfrm>
              <a:off x="1569600" y="3444840"/>
              <a:ext cx="65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besoins, ceux de sa famille ou de ses rela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2"/>
          <p:cNvGrpSpPr/>
          <p:nvPr/>
        </p:nvGrpSpPr>
        <p:grpSpPr>
          <a:xfrm>
            <a:off x="1246320" y="4956120"/>
            <a:ext cx="6274440" cy="459720"/>
            <a:chOff x="1246320" y="4956120"/>
            <a:chExt cx="6274440" cy="459720"/>
          </a:xfrm>
        </p:grpSpPr>
        <p:sp>
          <p:nvSpPr>
            <p:cNvPr id="389" name="Rectangle 13"/>
            <p:cNvSpPr/>
            <p:nvPr/>
          </p:nvSpPr>
          <p:spPr>
            <a:xfrm>
              <a:off x="1246320" y="50832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4"/>
            <p:cNvSpPr/>
            <p:nvPr/>
          </p:nvSpPr>
          <p:spPr>
            <a:xfrm>
              <a:off x="1586880" y="4956120"/>
              <a:ext cx="593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produits, des services, de son entourag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5"/>
          <p:cNvGrpSpPr/>
          <p:nvPr/>
        </p:nvGrpSpPr>
        <p:grpSpPr>
          <a:xfrm>
            <a:off x="1279440" y="4168800"/>
            <a:ext cx="8172000" cy="459720"/>
            <a:chOff x="1279440" y="4168800"/>
            <a:chExt cx="8172000" cy="459720"/>
          </a:xfrm>
        </p:grpSpPr>
        <p:sp>
          <p:nvSpPr>
            <p:cNvPr id="392" name="Rectangle 16"/>
            <p:cNvSpPr/>
            <p:nvPr/>
          </p:nvSpPr>
          <p:spPr>
            <a:xfrm>
              <a:off x="1279440" y="4282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7"/>
            <p:cNvSpPr/>
            <p:nvPr/>
          </p:nvSpPr>
          <p:spPr>
            <a:xfrm>
              <a:off x="1505880" y="4168800"/>
              <a:ext cx="79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sources d’informations ( journaux, télé, Internet, etc…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3473280" y="4158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423720" y="1673280"/>
            <a:ext cx="6718680" cy="520560"/>
            <a:chOff x="423720" y="1673280"/>
            <a:chExt cx="6718680" cy="520560"/>
          </a:xfrm>
        </p:grpSpPr>
        <p:sp>
          <p:nvSpPr>
            <p:cNvPr id="396" name="AutoShape 4"/>
            <p:cNvSpPr/>
            <p:nvPr/>
          </p:nvSpPr>
          <p:spPr>
            <a:xfrm>
              <a:off x="423720" y="180504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5"/>
            <p:cNvSpPr/>
            <p:nvPr/>
          </p:nvSpPr>
          <p:spPr>
            <a:xfrm>
              <a:off x="978480" y="1673280"/>
              <a:ext cx="616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Occasion d’affaire : possibilite concrè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6"/>
          <p:cNvGrpSpPr/>
          <p:nvPr/>
        </p:nvGrpSpPr>
        <p:grpSpPr>
          <a:xfrm>
            <a:off x="1911240" y="2581200"/>
            <a:ext cx="4194720" cy="459720"/>
            <a:chOff x="1911240" y="2581200"/>
            <a:chExt cx="4194720" cy="459720"/>
          </a:xfrm>
        </p:grpSpPr>
        <p:sp>
          <p:nvSpPr>
            <p:cNvPr id="399" name="Rectangle 7"/>
            <p:cNvSpPr/>
            <p:nvPr/>
          </p:nvSpPr>
          <p:spPr>
            <a:xfrm>
              <a:off x="1911240" y="27082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8"/>
            <p:cNvSpPr/>
            <p:nvPr/>
          </p:nvSpPr>
          <p:spPr>
            <a:xfrm>
              <a:off x="2371320" y="2581200"/>
              <a:ext cx="373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peut se commerciali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9"/>
          <p:cNvGrpSpPr/>
          <p:nvPr/>
        </p:nvGrpSpPr>
        <p:grpSpPr>
          <a:xfrm>
            <a:off x="1968480" y="4702320"/>
            <a:ext cx="3162600" cy="459720"/>
            <a:chOff x="1968480" y="4702320"/>
            <a:chExt cx="3162600" cy="459720"/>
          </a:xfrm>
        </p:grpSpPr>
        <p:sp>
          <p:nvSpPr>
            <p:cNvPr id="402" name="Rectangle 10"/>
            <p:cNvSpPr/>
            <p:nvPr/>
          </p:nvSpPr>
          <p:spPr>
            <a:xfrm>
              <a:off x="1968480" y="48164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1"/>
            <p:cNvSpPr/>
            <p:nvPr/>
          </p:nvSpPr>
          <p:spPr>
            <a:xfrm>
              <a:off x="2490480" y="4702320"/>
              <a:ext cx="26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doit permett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12"/>
          <p:cNvSpPr/>
          <p:nvPr/>
        </p:nvSpPr>
        <p:spPr>
          <a:xfrm>
            <a:off x="2247480" y="3354480"/>
            <a:ext cx="47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acceptable pour le consommat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2300400" y="3811680"/>
            <a:ext cx="385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rentable pour le vend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2354040" y="5386320"/>
            <a:ext cx="292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soudre un problè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2363040" y="5843520"/>
            <a:ext cx="27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pondre à un bes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1435320" y="434880"/>
            <a:ext cx="65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imes New Roman"/>
              </a:rPr>
              <a:t>Elaboration du plan d’aff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677880" y="2028960"/>
            <a:ext cx="3573000" cy="1373760"/>
            <a:chOff x="677880" y="2028960"/>
            <a:chExt cx="3573000" cy="1373760"/>
          </a:xfrm>
        </p:grpSpPr>
        <p:sp>
          <p:nvSpPr>
            <p:cNvPr id="410" name="AutoShape 4"/>
            <p:cNvSpPr/>
            <p:nvPr/>
          </p:nvSpPr>
          <p:spPr>
            <a:xfrm>
              <a:off x="677880" y="216072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5"/>
            <p:cNvSpPr/>
            <p:nvPr/>
          </p:nvSpPr>
          <p:spPr>
            <a:xfrm>
              <a:off x="1592280" y="2028960"/>
              <a:ext cx="26586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techn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jurid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6"/>
          <p:cNvGrpSpPr/>
          <p:nvPr/>
        </p:nvGrpSpPr>
        <p:grpSpPr>
          <a:xfrm>
            <a:off x="611280" y="3789360"/>
            <a:ext cx="3924720" cy="520560"/>
            <a:chOff x="611280" y="3789360"/>
            <a:chExt cx="3924720" cy="520560"/>
          </a:xfrm>
        </p:grpSpPr>
        <p:sp>
          <p:nvSpPr>
            <p:cNvPr id="413" name="AutoShape 7"/>
            <p:cNvSpPr/>
            <p:nvPr/>
          </p:nvSpPr>
          <p:spPr>
            <a:xfrm>
              <a:off x="611280" y="392112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8"/>
            <p:cNvSpPr/>
            <p:nvPr/>
          </p:nvSpPr>
          <p:spPr>
            <a:xfrm>
              <a:off x="1334880" y="3789360"/>
              <a:ext cx="32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de marke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9"/>
          <p:cNvGrpSpPr/>
          <p:nvPr/>
        </p:nvGrpSpPr>
        <p:grpSpPr>
          <a:xfrm>
            <a:off x="684360" y="4581360"/>
            <a:ext cx="3447360" cy="520560"/>
            <a:chOff x="684360" y="4581360"/>
            <a:chExt cx="3447360" cy="520560"/>
          </a:xfrm>
        </p:grpSpPr>
        <p:sp>
          <p:nvSpPr>
            <p:cNvPr id="416" name="AutoShape 10"/>
            <p:cNvSpPr/>
            <p:nvPr/>
          </p:nvSpPr>
          <p:spPr>
            <a:xfrm>
              <a:off x="684360" y="4713120"/>
              <a:ext cx="528120" cy="293760"/>
            </a:xfrm>
            <a:prstGeom prst="rightArrow">
              <a:avLst>
                <a:gd name="adj1" fmla="val 50000"/>
                <a:gd name="adj2" fmla="val 89898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1"/>
            <p:cNvSpPr/>
            <p:nvPr/>
          </p:nvSpPr>
          <p:spPr>
            <a:xfrm>
              <a:off x="1434960" y="4581360"/>
              <a:ext cx="269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financiè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2"/>
          <p:cNvSpPr/>
          <p:nvPr/>
        </p:nvSpPr>
        <p:spPr>
          <a:xfrm>
            <a:off x="4867200" y="50450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619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971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Franklin Gothic Book"/>
              </a:rPr>
              <a:t>Qu’est-ce qu’être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23:26Z</dcterms:created>
  <dc:creator>Benchekara</dc:creator>
  <dc:description/>
  <dc:language>en-US</dc:language>
  <cp:lastModifiedBy>bureau65</cp:lastModifiedBy>
  <dcterms:modified xsi:type="dcterms:W3CDTF">2016-12-09T15:36:16Z</dcterms:modified>
  <cp:revision>11</cp:revision>
  <dc:subject/>
  <dc:title>Diapositive 1</dc:title>
</cp:coreProperties>
</file>