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B07C-1BB2-4134-BFCF-AEB111B71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67D3-CBE1-4F47-8993-0C65F6874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1907-5EE1-4E14-A932-F72D938FC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7BED-8569-4837-BA2E-10038BA8E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21B5A-68AA-4132-95F5-B5D5CC655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5B8F4-0D39-46BA-B65B-9D13C607B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BA94D-F06F-4A46-A501-DB62497D8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69B74-C895-406C-BA6C-160A8D7FA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E986F-DAA1-417F-8961-7829E5514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2E32E-1B5F-4A04-B97D-D2E0DB008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DC9C6-A5A2-44B6-B3A5-8EC6FCE6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9B7C-7EF5-4B23-9A29-336CABF1F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0D09B-934A-4FDC-8E43-8D1A7C2F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203C2-558C-48AD-A419-0D4EF4EC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F9C86-D003-44E2-B664-0188EAF50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85598-2A8A-4535-B54B-48D74AA38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AC2D2-2155-4DCF-AEC5-9D8CBA963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8B409-783E-4E88-84B4-F32FA1D15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7CFDC-A78E-43C8-9CAF-14811F8FE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05E45-9C0B-4ECB-B1B1-B6D561963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2488C-538B-480F-ACA7-6046E6E20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7DD24-DB3E-415A-8B20-848EE67AC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0C29-D76D-47C9-A095-C26ED741E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A427C-8043-45E0-8DD5-70F8C21F6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653C3-7EA4-4480-BD83-D50DF9B95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855EB-69CB-4B75-8A9D-6D658E8A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38275-9668-4AF5-B0F0-C9110D02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5765E-4EF5-474C-BB1A-C2B13F5C7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37B63-6293-4070-B460-9C3C8631B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AE5CB-E32A-4ABD-AD43-FE4C08775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C8134-C02E-4EE2-8B53-3FFD31A77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38A49-E73E-4126-B2C0-438F03A43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146E1-112D-4DFF-B35E-6BF17CADE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0859-7D93-4D17-8717-8BF5B1455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9EE08-A5FD-42FA-AC1A-88BEF5EAA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AFF6A-72A3-46E1-83D0-03194A1A8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6E441-0BF9-4E7B-8177-3531832F1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5A7AE-1F38-4EB7-A1AC-B84B4132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A9D11-012D-4EB6-80A2-7D31329F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03D22-8BC9-44BB-9746-C0A58D1E7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BDC9E-1CAD-4159-B57D-B04ABAC9E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45105-C272-426D-A4F9-1FEB7EC18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1A906-D98D-4192-955B-E14987C62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EE72F-CC61-41FE-A4E9-CEBA1B59A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A5F4-0567-429C-B94D-970FD46E7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A2A7B-3932-4F55-A812-A34700CC8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82045-E4F1-4559-9364-89B300D08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A332E1-B510-43D1-B310-07BA4E891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92573A-8498-424F-BE1B-C74352FF1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B4DF7-5BCD-400C-87AC-871AE1D23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DED7C4-47AC-45DD-8E8B-418AEAF21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FFBE1-8263-47FB-81FE-834AD229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3B8B65-A848-4EB5-9297-BFA1C725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135A97-038B-4373-AC81-7550878C1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E4E90-7829-42C2-8FCE-8E608D737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B296-6A62-4A5E-B876-DBA18BECA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F207AC-BB73-4EC3-B18F-2B668EE3D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8B30-9B56-471E-B54D-DD548200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732E-DB09-476B-AFFB-2CFA51BB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C8D5-97F4-44AE-A276-62B2B527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A02ED-BF34-402F-9D27-E61BE3BABC19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à coins arrondis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2C7F8-3284-463E-A6EB-8D784D02C64D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ectangle à coins arrondis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ectangle à coins arrondis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6C67D-48FE-4199-A588-CD77147B93F5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à coins arrondis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5CFA3-0B6B-4140-A96B-2984DEBC7F20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8B8D7-4B79-4057-BBBD-A954C5B32231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400" spc="-1" strike="noStrike">
                <a:solidFill>
                  <a:srgbClr val="696464"/>
                </a:solidFill>
                <a:latin typeface="Perpetua"/>
              </a:rPr>
              <a:t>Le profil de l’entrepreneur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ffffff"/>
                </a:solidFill>
                <a:latin typeface="Franklin Gothic Book"/>
              </a:rPr>
              <a:t>Chapitre 1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’est-ce qu’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755280" y="5516280"/>
            <a:ext cx="3738600" cy="2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3" name=""/>
          <p:cNvSpPr txBox="1"/>
          <p:nvPr/>
        </p:nvSpPr>
        <p:spPr>
          <a:xfrm rot="10800000">
            <a:off x="4788000" y="5491080"/>
            <a:ext cx="3970080" cy="1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4" name="Text Box 5"/>
          <p:cNvSpPr/>
          <p:nvPr/>
        </p:nvSpPr>
        <p:spPr>
          <a:xfrm>
            <a:off x="755640" y="2852640"/>
            <a:ext cx="7688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entrepreneur met en place des moyens pour exploiter une occasion d’affaires et ainsi réaliser certaines aspirations personne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’est-ce qu’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684000" y="3282840"/>
            <a:ext cx="3809880" cy="25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Assume le risqu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Travaille beaucoup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tena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engage à long ter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Aime l’ac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643280" y="3357720"/>
            <a:ext cx="41148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créatif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Décide sans tout savoi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Veut être son propre patr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autono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lles compétences doit-il maîtrise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naissance du secteur d’activité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naissances en ges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fiance en soi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Énergie et pass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Tolérance au stres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adapte au changemen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apacité à s’entourer et à écoute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 fait 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 fait 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Identifie les occasions d’affair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çoit et réalise des vis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entoure et gère les ressources humain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Met en marché et ven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Prend des décis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Fait fonctionner la produc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Gère les financ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Gère son réseau de contac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Homme-orchestr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Entrepreneur </a:t>
            </a:r>
            <a:br>
              <a:rPr sz="4300"/>
            </a:b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ou </a:t>
            </a:r>
            <a:br>
              <a:rPr sz="4300"/>
            </a:b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travailleur autonome?</a:t>
            </a:r>
            <a:endParaRPr b="0" lang="en-US" sz="43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6a6363"/>
                </a:solidFill>
                <a:latin typeface="Franklin Gothic Book"/>
              </a:rPr>
              <a:t>Entrepreneur vs travailleur autonome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934560" y="2420640"/>
            <a:ext cx="8209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Perpetua"/>
              </a:rPr>
              <a:t>Travailleur autonome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Grande importance accordée à l’autonomie et l’indépendanc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Recherche la flexibilité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Désire valoriser son travai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Veut se concentrer uniquement sur ce qu’il aim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ntrepreneu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Vise principalement la croissanc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Par choix ou par obligation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6a6363"/>
                </a:solidFill>
                <a:latin typeface="Franklin Gothic Book"/>
              </a:rPr>
              <a:t>Savez-vous dans quoi vous vous embarquez?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7056360" cy="39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80% travaillent plus de 50h/semaine vs 14% des salarié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La moitié consacrent plus de 60h/semaine à leur entrepris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eulement 30% des entrepreneurs se rendent à la cinquième année d’existen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Nombre d’entreprises démarrées avant d’atteindre le succès…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6a6363"/>
                </a:solidFill>
                <a:latin typeface="Rockwell Condensed"/>
              </a:rPr>
              <a:t>5. Parcours d’un jeune entrepreneur</a:t>
            </a:r>
            <a:br>
              <a:rPr sz="3600"/>
            </a:b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893520" y="928800"/>
            <a:ext cx="8250120" cy="5806800"/>
          </a:xfrm>
          <a:prstGeom prst="rect">
            <a:avLst/>
          </a:prstGeom>
          <a:solidFill>
            <a:srgbClr val="ef8c6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a28e6a"/>
              </a:buClr>
              <a:buSzPct val="8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3 principales phases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pré-cré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nalyse préalable du projet (Etudes de faisabilité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Elaboration du BP (plan d’affaires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Recherche de financement et négociation avec les partenaires financiers ou autr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intermédiair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ccomplissement des formalités juridiqu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post - cré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Gestion des obligations social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Mise en place des outils de gestion (Tableaux de bord, comptabilité analytique, etc.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Organisation et gestion administrative et comptabl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nalyse relative aux premiers mois d’activité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1384200" y="209520"/>
            <a:ext cx="60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Caractéristiques et apptitu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entrepreuneuri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3"/>
          <p:cNvGrpSpPr/>
          <p:nvPr/>
        </p:nvGrpSpPr>
        <p:grpSpPr>
          <a:xfrm>
            <a:off x="347760" y="1457280"/>
            <a:ext cx="8034120" cy="520560"/>
            <a:chOff x="347760" y="1457280"/>
            <a:chExt cx="8034120" cy="520560"/>
          </a:xfrm>
        </p:grpSpPr>
        <p:sp>
          <p:nvSpPr>
            <p:cNvPr id="232" name="AutoShape 4"/>
            <p:cNvSpPr/>
            <p:nvPr/>
          </p:nvSpPr>
          <p:spPr>
            <a:xfrm>
              <a:off x="347760" y="1589040"/>
              <a:ext cx="527040" cy="293760"/>
            </a:xfrm>
            <a:prstGeom prst="rightArrow">
              <a:avLst>
                <a:gd name="adj1" fmla="val 50000"/>
                <a:gd name="adj2" fmla="val 89714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5"/>
            <p:cNvSpPr/>
            <p:nvPr/>
          </p:nvSpPr>
          <p:spPr>
            <a:xfrm>
              <a:off x="829440" y="1457280"/>
              <a:ext cx="755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Antécédents personnels: famille d’entrepreneur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6"/>
          <p:cNvGrpSpPr/>
          <p:nvPr/>
        </p:nvGrpSpPr>
        <p:grpSpPr>
          <a:xfrm>
            <a:off x="347760" y="2114640"/>
            <a:ext cx="2788920" cy="520560"/>
            <a:chOff x="347760" y="2114640"/>
            <a:chExt cx="2788920" cy="520560"/>
          </a:xfrm>
        </p:grpSpPr>
        <p:sp>
          <p:nvSpPr>
            <p:cNvPr id="235" name="AutoShape 7"/>
            <p:cNvSpPr/>
            <p:nvPr/>
          </p:nvSpPr>
          <p:spPr>
            <a:xfrm>
              <a:off x="347760" y="224640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8"/>
            <p:cNvSpPr/>
            <p:nvPr/>
          </p:nvSpPr>
          <p:spPr>
            <a:xfrm>
              <a:off x="1134720" y="2114640"/>
              <a:ext cx="200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Motivation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9"/>
          <p:cNvGrpSpPr/>
          <p:nvPr/>
        </p:nvGrpSpPr>
        <p:grpSpPr>
          <a:xfrm>
            <a:off x="347760" y="4241880"/>
            <a:ext cx="5293080" cy="520560"/>
            <a:chOff x="347760" y="4241880"/>
            <a:chExt cx="5293080" cy="520560"/>
          </a:xfrm>
        </p:grpSpPr>
        <p:sp>
          <p:nvSpPr>
            <p:cNvPr id="238" name="AutoShape 10"/>
            <p:cNvSpPr/>
            <p:nvPr/>
          </p:nvSpPr>
          <p:spPr>
            <a:xfrm>
              <a:off x="347760" y="437364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11"/>
            <p:cNvSpPr/>
            <p:nvPr/>
          </p:nvSpPr>
          <p:spPr>
            <a:xfrm>
              <a:off x="988560" y="4241880"/>
              <a:ext cx="465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Caractéristiques personnell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12"/>
          <p:cNvGrpSpPr/>
          <p:nvPr/>
        </p:nvGrpSpPr>
        <p:grpSpPr>
          <a:xfrm>
            <a:off x="819000" y="2593800"/>
            <a:ext cx="4067640" cy="459720"/>
            <a:chOff x="819000" y="2593800"/>
            <a:chExt cx="4067640" cy="459720"/>
          </a:xfrm>
        </p:grpSpPr>
        <p:sp>
          <p:nvSpPr>
            <p:cNvPr id="241" name="Rectangle 13"/>
            <p:cNvSpPr/>
            <p:nvPr/>
          </p:nvSpPr>
          <p:spPr>
            <a:xfrm>
              <a:off x="819000" y="27208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14"/>
            <p:cNvSpPr/>
            <p:nvPr/>
          </p:nvSpPr>
          <p:spPr>
            <a:xfrm>
              <a:off x="1289160" y="2593800"/>
              <a:ext cx="359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’accompliss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15"/>
          <p:cNvGrpSpPr/>
          <p:nvPr/>
        </p:nvGrpSpPr>
        <p:grpSpPr>
          <a:xfrm>
            <a:off x="819000" y="3076560"/>
            <a:ext cx="3050280" cy="459720"/>
            <a:chOff x="819000" y="3076560"/>
            <a:chExt cx="3050280" cy="459720"/>
          </a:xfrm>
        </p:grpSpPr>
        <p:sp>
          <p:nvSpPr>
            <p:cNvPr id="244" name="Rectangle 16"/>
            <p:cNvSpPr/>
            <p:nvPr/>
          </p:nvSpPr>
          <p:spPr>
            <a:xfrm>
              <a:off x="819000" y="31906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17"/>
            <p:cNvSpPr/>
            <p:nvPr/>
          </p:nvSpPr>
          <p:spPr>
            <a:xfrm>
              <a:off x="1350720" y="3076560"/>
              <a:ext cx="251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e pouvoi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18"/>
          <p:cNvGrpSpPr/>
          <p:nvPr/>
        </p:nvGrpSpPr>
        <p:grpSpPr>
          <a:xfrm>
            <a:off x="819000" y="3571920"/>
            <a:ext cx="3283200" cy="459720"/>
            <a:chOff x="819000" y="3571920"/>
            <a:chExt cx="3283200" cy="459720"/>
          </a:xfrm>
        </p:grpSpPr>
        <p:sp>
          <p:nvSpPr>
            <p:cNvPr id="247" name="Rectangle 19"/>
            <p:cNvSpPr/>
            <p:nvPr/>
          </p:nvSpPr>
          <p:spPr>
            <a:xfrm>
              <a:off x="819000" y="36864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20"/>
            <p:cNvSpPr/>
            <p:nvPr/>
          </p:nvSpPr>
          <p:spPr>
            <a:xfrm>
              <a:off x="1336680" y="3571920"/>
              <a:ext cx="276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’autonom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21"/>
          <p:cNvGrpSpPr/>
          <p:nvPr/>
        </p:nvGrpSpPr>
        <p:grpSpPr>
          <a:xfrm>
            <a:off x="785880" y="4753080"/>
            <a:ext cx="2858400" cy="459720"/>
            <a:chOff x="785880" y="4753080"/>
            <a:chExt cx="2858400" cy="459720"/>
          </a:xfrm>
        </p:grpSpPr>
        <p:sp>
          <p:nvSpPr>
            <p:cNvPr id="250" name="Rectangle 22"/>
            <p:cNvSpPr/>
            <p:nvPr/>
          </p:nvSpPr>
          <p:spPr>
            <a:xfrm>
              <a:off x="785880" y="48801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23"/>
            <p:cNvSpPr/>
            <p:nvPr/>
          </p:nvSpPr>
          <p:spPr>
            <a:xfrm>
              <a:off x="1328400" y="4753080"/>
              <a:ext cx="231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onfiance en so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24"/>
          <p:cNvGrpSpPr/>
          <p:nvPr/>
        </p:nvGrpSpPr>
        <p:grpSpPr>
          <a:xfrm>
            <a:off x="785880" y="5235480"/>
            <a:ext cx="2473200" cy="459720"/>
            <a:chOff x="785880" y="5235480"/>
            <a:chExt cx="2473200" cy="459720"/>
          </a:xfrm>
        </p:grpSpPr>
        <p:sp>
          <p:nvSpPr>
            <p:cNvPr id="253" name="Rectangle 25"/>
            <p:cNvSpPr/>
            <p:nvPr/>
          </p:nvSpPr>
          <p:spPr>
            <a:xfrm>
              <a:off x="785880" y="53496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26"/>
            <p:cNvSpPr/>
            <p:nvPr/>
          </p:nvSpPr>
          <p:spPr>
            <a:xfrm>
              <a:off x="1350000" y="5235480"/>
              <a:ext cx="190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ersévér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27"/>
          <p:cNvGrpSpPr/>
          <p:nvPr/>
        </p:nvGrpSpPr>
        <p:grpSpPr>
          <a:xfrm>
            <a:off x="785880" y="5730840"/>
            <a:ext cx="1801080" cy="459720"/>
            <a:chOff x="785880" y="5730840"/>
            <a:chExt cx="1801080" cy="459720"/>
          </a:xfrm>
        </p:grpSpPr>
        <p:sp>
          <p:nvSpPr>
            <p:cNvPr id="256" name="Rectangle 28"/>
            <p:cNvSpPr/>
            <p:nvPr/>
          </p:nvSpPr>
          <p:spPr>
            <a:xfrm>
              <a:off x="785880" y="58453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29"/>
            <p:cNvSpPr/>
            <p:nvPr/>
          </p:nvSpPr>
          <p:spPr>
            <a:xfrm>
              <a:off x="1389600" y="5730840"/>
              <a:ext cx="119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nerg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30"/>
          <p:cNvGrpSpPr/>
          <p:nvPr/>
        </p:nvGrpSpPr>
        <p:grpSpPr>
          <a:xfrm>
            <a:off x="4726080" y="4753080"/>
            <a:ext cx="3210120" cy="459720"/>
            <a:chOff x="4726080" y="4753080"/>
            <a:chExt cx="3210120" cy="459720"/>
          </a:xfrm>
        </p:grpSpPr>
        <p:sp>
          <p:nvSpPr>
            <p:cNvPr id="259" name="Rectangle 31"/>
            <p:cNvSpPr/>
            <p:nvPr/>
          </p:nvSpPr>
          <p:spPr>
            <a:xfrm>
              <a:off x="4726080" y="48801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32"/>
            <p:cNvSpPr/>
            <p:nvPr/>
          </p:nvSpPr>
          <p:spPr>
            <a:xfrm>
              <a:off x="5247000" y="4753080"/>
              <a:ext cx="268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Tolérance au stre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33"/>
          <p:cNvGrpSpPr/>
          <p:nvPr/>
        </p:nvGrpSpPr>
        <p:grpSpPr>
          <a:xfrm>
            <a:off x="4726080" y="5235480"/>
            <a:ext cx="3170520" cy="459720"/>
            <a:chOff x="4726080" y="5235480"/>
            <a:chExt cx="3170520" cy="459720"/>
          </a:xfrm>
        </p:grpSpPr>
        <p:sp>
          <p:nvSpPr>
            <p:cNvPr id="262" name="Rectangle 34"/>
            <p:cNvSpPr/>
            <p:nvPr/>
          </p:nvSpPr>
          <p:spPr>
            <a:xfrm>
              <a:off x="4726080" y="53496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35"/>
            <p:cNvSpPr/>
            <p:nvPr/>
          </p:nvSpPr>
          <p:spPr>
            <a:xfrm>
              <a:off x="5249880" y="5235480"/>
              <a:ext cx="264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apacité d’analy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36"/>
          <p:cNvGrpSpPr/>
          <p:nvPr/>
        </p:nvGrpSpPr>
        <p:grpSpPr>
          <a:xfrm>
            <a:off x="4726080" y="5730840"/>
            <a:ext cx="2986200" cy="459720"/>
            <a:chOff x="4726080" y="5730840"/>
            <a:chExt cx="2986200" cy="459720"/>
          </a:xfrm>
        </p:grpSpPr>
        <p:sp>
          <p:nvSpPr>
            <p:cNvPr id="265" name="Rectangle 37"/>
            <p:cNvSpPr/>
            <p:nvPr/>
          </p:nvSpPr>
          <p:spPr>
            <a:xfrm>
              <a:off x="4726080" y="58453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38"/>
            <p:cNvSpPr/>
            <p:nvPr/>
          </p:nvSpPr>
          <p:spPr>
            <a:xfrm>
              <a:off x="5259240" y="5730840"/>
              <a:ext cx="245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ns de créativit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1384560" y="209520"/>
            <a:ext cx="60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Caractéristiques et apptitu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entrepreunariales (suit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3"/>
          <p:cNvGrpSpPr/>
          <p:nvPr/>
        </p:nvGrpSpPr>
        <p:grpSpPr>
          <a:xfrm>
            <a:off x="369720" y="1568520"/>
            <a:ext cx="2396880" cy="520560"/>
            <a:chOff x="369720" y="1568520"/>
            <a:chExt cx="2396880" cy="520560"/>
          </a:xfrm>
        </p:grpSpPr>
        <p:sp>
          <p:nvSpPr>
            <p:cNvPr id="269" name="AutoShape 4"/>
            <p:cNvSpPr/>
            <p:nvPr/>
          </p:nvSpPr>
          <p:spPr>
            <a:xfrm>
              <a:off x="369720" y="170028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5"/>
            <p:cNvSpPr/>
            <p:nvPr/>
          </p:nvSpPr>
          <p:spPr>
            <a:xfrm>
              <a:off x="1182240" y="156852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Attitud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6"/>
          <p:cNvGrpSpPr/>
          <p:nvPr/>
        </p:nvGrpSpPr>
        <p:grpSpPr>
          <a:xfrm>
            <a:off x="347760" y="3327480"/>
            <a:ext cx="3383640" cy="520560"/>
            <a:chOff x="347760" y="3327480"/>
            <a:chExt cx="3383640" cy="520560"/>
          </a:xfrm>
        </p:grpSpPr>
        <p:sp>
          <p:nvSpPr>
            <p:cNvPr id="272" name="AutoShape 7"/>
            <p:cNvSpPr/>
            <p:nvPr/>
          </p:nvSpPr>
          <p:spPr>
            <a:xfrm>
              <a:off x="347760" y="345924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8"/>
            <p:cNvSpPr/>
            <p:nvPr/>
          </p:nvSpPr>
          <p:spPr>
            <a:xfrm>
              <a:off x="1103040" y="3327480"/>
              <a:ext cx="262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Comportemen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9"/>
          <p:cNvGrpSpPr/>
          <p:nvPr/>
        </p:nvGrpSpPr>
        <p:grpSpPr>
          <a:xfrm>
            <a:off x="843120" y="2149560"/>
            <a:ext cx="4807440" cy="459720"/>
            <a:chOff x="843120" y="2149560"/>
            <a:chExt cx="4807440" cy="459720"/>
          </a:xfrm>
        </p:grpSpPr>
        <p:sp>
          <p:nvSpPr>
            <p:cNvPr id="275" name="Rectangle 10"/>
            <p:cNvSpPr/>
            <p:nvPr/>
          </p:nvSpPr>
          <p:spPr>
            <a:xfrm>
              <a:off x="843120" y="22766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11"/>
            <p:cNvSpPr/>
            <p:nvPr/>
          </p:nvSpPr>
          <p:spPr>
            <a:xfrm>
              <a:off x="1266480" y="2149560"/>
              <a:ext cx="438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Ouverture face à la concurre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Group 12"/>
          <p:cNvGrpSpPr/>
          <p:nvPr/>
        </p:nvGrpSpPr>
        <p:grpSpPr>
          <a:xfrm>
            <a:off x="843120" y="2631960"/>
            <a:ext cx="3578040" cy="459720"/>
            <a:chOff x="843120" y="2631960"/>
            <a:chExt cx="3578040" cy="459720"/>
          </a:xfrm>
        </p:grpSpPr>
        <p:sp>
          <p:nvSpPr>
            <p:cNvPr id="278" name="Rectangle 13"/>
            <p:cNvSpPr/>
            <p:nvPr/>
          </p:nvSpPr>
          <p:spPr>
            <a:xfrm>
              <a:off x="843120" y="2746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14"/>
            <p:cNvSpPr/>
            <p:nvPr/>
          </p:nvSpPr>
          <p:spPr>
            <a:xfrm>
              <a:off x="1343160" y="2631960"/>
              <a:ext cx="30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Vision du chan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15"/>
          <p:cNvGrpSpPr/>
          <p:nvPr/>
        </p:nvGrpSpPr>
        <p:grpSpPr>
          <a:xfrm>
            <a:off x="819000" y="3838680"/>
            <a:ext cx="2043000" cy="459720"/>
            <a:chOff x="819000" y="3838680"/>
            <a:chExt cx="2043000" cy="459720"/>
          </a:xfrm>
        </p:grpSpPr>
        <p:sp>
          <p:nvSpPr>
            <p:cNvPr id="281" name="Rectangle 16"/>
            <p:cNvSpPr/>
            <p:nvPr/>
          </p:nvSpPr>
          <p:spPr>
            <a:xfrm>
              <a:off x="819000" y="39657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17"/>
            <p:cNvSpPr/>
            <p:nvPr/>
          </p:nvSpPr>
          <p:spPr>
            <a:xfrm>
              <a:off x="1410120" y="3838680"/>
              <a:ext cx="145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mpath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18"/>
          <p:cNvGrpSpPr/>
          <p:nvPr/>
        </p:nvGrpSpPr>
        <p:grpSpPr>
          <a:xfrm>
            <a:off x="819000" y="4321080"/>
            <a:ext cx="2331000" cy="459720"/>
            <a:chOff x="819000" y="4321080"/>
            <a:chExt cx="2331000" cy="459720"/>
          </a:xfrm>
        </p:grpSpPr>
        <p:sp>
          <p:nvSpPr>
            <p:cNvPr id="284" name="Rectangle 19"/>
            <p:cNvSpPr/>
            <p:nvPr/>
          </p:nvSpPr>
          <p:spPr>
            <a:xfrm>
              <a:off x="819000" y="4435200"/>
              <a:ext cx="22860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20"/>
            <p:cNvSpPr/>
            <p:nvPr/>
          </p:nvSpPr>
          <p:spPr>
            <a:xfrm>
              <a:off x="1393560" y="4321080"/>
              <a:ext cx="175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Leader-shi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21"/>
          <p:cNvGrpSpPr/>
          <p:nvPr/>
        </p:nvGrpSpPr>
        <p:grpSpPr>
          <a:xfrm>
            <a:off x="819000" y="4816440"/>
            <a:ext cx="2610720" cy="459720"/>
            <a:chOff x="819000" y="4816440"/>
            <a:chExt cx="2610720" cy="459720"/>
          </a:xfrm>
        </p:grpSpPr>
        <p:sp>
          <p:nvSpPr>
            <p:cNvPr id="287" name="Rectangle 22"/>
            <p:cNvSpPr/>
            <p:nvPr/>
          </p:nvSpPr>
          <p:spPr>
            <a:xfrm>
              <a:off x="819000" y="49309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23"/>
            <p:cNvSpPr/>
            <p:nvPr/>
          </p:nvSpPr>
          <p:spPr>
            <a:xfrm>
              <a:off x="1375920" y="4816440"/>
              <a:ext cx="205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sprit curieu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24"/>
          <p:cNvGrpSpPr/>
          <p:nvPr/>
        </p:nvGrpSpPr>
        <p:grpSpPr>
          <a:xfrm>
            <a:off x="819000" y="5248440"/>
            <a:ext cx="3523320" cy="459720"/>
            <a:chOff x="819000" y="5248440"/>
            <a:chExt cx="3523320" cy="459720"/>
          </a:xfrm>
        </p:grpSpPr>
        <p:sp>
          <p:nvSpPr>
            <p:cNvPr id="290" name="Rectangle 25"/>
            <p:cNvSpPr/>
            <p:nvPr/>
          </p:nvSpPr>
          <p:spPr>
            <a:xfrm>
              <a:off x="819000" y="53755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26"/>
            <p:cNvSpPr/>
            <p:nvPr/>
          </p:nvSpPr>
          <p:spPr>
            <a:xfrm>
              <a:off x="1322280" y="5248440"/>
              <a:ext cx="302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sir d’apprentissa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Group 27"/>
          <p:cNvGrpSpPr/>
          <p:nvPr/>
        </p:nvGrpSpPr>
        <p:grpSpPr>
          <a:xfrm>
            <a:off x="819000" y="5730840"/>
            <a:ext cx="3243600" cy="459720"/>
            <a:chOff x="819000" y="5730840"/>
            <a:chExt cx="3243600" cy="459720"/>
          </a:xfrm>
        </p:grpSpPr>
        <p:sp>
          <p:nvSpPr>
            <p:cNvPr id="293" name="Rectangle 28"/>
            <p:cNvSpPr/>
            <p:nvPr/>
          </p:nvSpPr>
          <p:spPr>
            <a:xfrm>
              <a:off x="819000" y="5844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29"/>
            <p:cNvSpPr/>
            <p:nvPr/>
          </p:nvSpPr>
          <p:spPr>
            <a:xfrm>
              <a:off x="1338480" y="5730840"/>
              <a:ext cx="272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aisie des occas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30"/>
          <p:cNvGrpSpPr/>
          <p:nvPr/>
        </p:nvGrpSpPr>
        <p:grpSpPr>
          <a:xfrm>
            <a:off x="819000" y="6226200"/>
            <a:ext cx="3115440" cy="459720"/>
            <a:chOff x="819000" y="6226200"/>
            <a:chExt cx="3115440" cy="459720"/>
          </a:xfrm>
        </p:grpSpPr>
        <p:sp>
          <p:nvSpPr>
            <p:cNvPr id="296" name="Rectangle 31"/>
            <p:cNvSpPr/>
            <p:nvPr/>
          </p:nvSpPr>
          <p:spPr>
            <a:xfrm>
              <a:off x="819000" y="6340680"/>
              <a:ext cx="22860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32"/>
            <p:cNvSpPr/>
            <p:nvPr/>
          </p:nvSpPr>
          <p:spPr>
            <a:xfrm>
              <a:off x="1345680" y="6226200"/>
              <a:ext cx="25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rise des décis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2"/>
          <p:cNvSpPr/>
          <p:nvPr/>
        </p:nvSpPr>
        <p:spPr>
          <a:xfrm>
            <a:off x="1091160" y="109548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Sala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Group 3"/>
          <p:cNvGrpSpPr/>
          <p:nvPr/>
        </p:nvGrpSpPr>
        <p:grpSpPr>
          <a:xfrm>
            <a:off x="447840" y="1946160"/>
            <a:ext cx="2513880" cy="459720"/>
            <a:chOff x="447840" y="1946160"/>
            <a:chExt cx="2513880" cy="459720"/>
          </a:xfrm>
        </p:grpSpPr>
        <p:sp>
          <p:nvSpPr>
            <p:cNvPr id="300" name="Rectangle 4"/>
            <p:cNvSpPr/>
            <p:nvPr/>
          </p:nvSpPr>
          <p:spPr>
            <a:xfrm>
              <a:off x="447840" y="20732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5"/>
            <p:cNvSpPr/>
            <p:nvPr/>
          </p:nvSpPr>
          <p:spPr>
            <a:xfrm>
              <a:off x="1010160" y="1946160"/>
              <a:ext cx="195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evenus fix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6"/>
          <p:cNvGrpSpPr/>
          <p:nvPr/>
        </p:nvGrpSpPr>
        <p:grpSpPr>
          <a:xfrm>
            <a:off x="447840" y="2644920"/>
            <a:ext cx="3009600" cy="459720"/>
            <a:chOff x="447840" y="2644920"/>
            <a:chExt cx="3009600" cy="459720"/>
          </a:xfrm>
        </p:grpSpPr>
        <p:sp>
          <p:nvSpPr>
            <p:cNvPr id="303" name="Rectangle 7"/>
            <p:cNvSpPr/>
            <p:nvPr/>
          </p:nvSpPr>
          <p:spPr>
            <a:xfrm>
              <a:off x="44784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8"/>
            <p:cNvSpPr/>
            <p:nvPr/>
          </p:nvSpPr>
          <p:spPr>
            <a:xfrm>
              <a:off x="978480" y="2644920"/>
              <a:ext cx="247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rotection socia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9"/>
          <p:cNvGrpSpPr/>
          <p:nvPr/>
        </p:nvGrpSpPr>
        <p:grpSpPr>
          <a:xfrm>
            <a:off x="447840" y="3419640"/>
            <a:ext cx="2881440" cy="459720"/>
            <a:chOff x="447840" y="3419640"/>
            <a:chExt cx="2881440" cy="459720"/>
          </a:xfrm>
        </p:grpSpPr>
        <p:sp>
          <p:nvSpPr>
            <p:cNvPr id="306" name="Rectangle 10"/>
            <p:cNvSpPr/>
            <p:nvPr/>
          </p:nvSpPr>
          <p:spPr>
            <a:xfrm>
              <a:off x="44784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11"/>
            <p:cNvSpPr/>
            <p:nvPr/>
          </p:nvSpPr>
          <p:spPr>
            <a:xfrm>
              <a:off x="988920" y="3419640"/>
              <a:ext cx="234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Vacances payé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Text Box 12"/>
          <p:cNvSpPr/>
          <p:nvPr/>
        </p:nvSpPr>
        <p:spPr>
          <a:xfrm>
            <a:off x="-268560" y="184320"/>
            <a:ext cx="969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Avantages des statuts salarié et entrepreuneu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3"/>
          <p:cNvSpPr/>
          <p:nvPr/>
        </p:nvSpPr>
        <p:spPr>
          <a:xfrm>
            <a:off x="4757040" y="1095480"/>
            <a:ext cx="30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Entrepreneu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14"/>
          <p:cNvGrpSpPr/>
          <p:nvPr/>
        </p:nvGrpSpPr>
        <p:grpSpPr>
          <a:xfrm>
            <a:off x="447840" y="4194000"/>
            <a:ext cx="2817360" cy="459720"/>
            <a:chOff x="447840" y="4194000"/>
            <a:chExt cx="2817360" cy="459720"/>
          </a:xfrm>
        </p:grpSpPr>
        <p:sp>
          <p:nvSpPr>
            <p:cNvPr id="311" name="Rectangle 15"/>
            <p:cNvSpPr/>
            <p:nvPr/>
          </p:nvSpPr>
          <p:spPr>
            <a:xfrm>
              <a:off x="44784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16"/>
            <p:cNvSpPr/>
            <p:nvPr/>
          </p:nvSpPr>
          <p:spPr>
            <a:xfrm>
              <a:off x="992160" y="4194000"/>
              <a:ext cx="227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adre structur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Group 17"/>
          <p:cNvGrpSpPr/>
          <p:nvPr/>
        </p:nvGrpSpPr>
        <p:grpSpPr>
          <a:xfrm>
            <a:off x="447840" y="5019840"/>
            <a:ext cx="4304880" cy="459720"/>
            <a:chOff x="447840" y="5019840"/>
            <a:chExt cx="4304880" cy="459720"/>
          </a:xfrm>
        </p:grpSpPr>
        <p:sp>
          <p:nvSpPr>
            <p:cNvPr id="314" name="Rectangle 18"/>
            <p:cNvSpPr/>
            <p:nvPr/>
          </p:nvSpPr>
          <p:spPr>
            <a:xfrm>
              <a:off x="44784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19"/>
            <p:cNvSpPr/>
            <p:nvPr/>
          </p:nvSpPr>
          <p:spPr>
            <a:xfrm>
              <a:off x="902160" y="5019840"/>
              <a:ext cx="385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encontre avec les collègu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20"/>
          <p:cNvGrpSpPr/>
          <p:nvPr/>
        </p:nvGrpSpPr>
        <p:grpSpPr>
          <a:xfrm>
            <a:off x="458640" y="5832360"/>
            <a:ext cx="3891240" cy="459720"/>
            <a:chOff x="458640" y="5832360"/>
            <a:chExt cx="3891240" cy="459720"/>
          </a:xfrm>
        </p:grpSpPr>
        <p:sp>
          <p:nvSpPr>
            <p:cNvPr id="317" name="Rectangle 21"/>
            <p:cNvSpPr/>
            <p:nvPr/>
          </p:nvSpPr>
          <p:spPr>
            <a:xfrm>
              <a:off x="45864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22"/>
            <p:cNvSpPr/>
            <p:nvPr/>
          </p:nvSpPr>
          <p:spPr>
            <a:xfrm>
              <a:off x="938160" y="5832360"/>
              <a:ext cx="341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ossibilité d’avanc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Group 23"/>
          <p:cNvGrpSpPr/>
          <p:nvPr/>
        </p:nvGrpSpPr>
        <p:grpSpPr>
          <a:xfrm>
            <a:off x="4849920" y="1895400"/>
            <a:ext cx="4050360" cy="459720"/>
            <a:chOff x="4849920" y="1895400"/>
            <a:chExt cx="4050360" cy="459720"/>
          </a:xfrm>
        </p:grpSpPr>
        <p:sp>
          <p:nvSpPr>
            <p:cNvPr id="320" name="Rectangle 24"/>
            <p:cNvSpPr/>
            <p:nvPr/>
          </p:nvSpPr>
          <p:spPr>
            <a:xfrm>
              <a:off x="4849920" y="20224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25"/>
            <p:cNvSpPr/>
            <p:nvPr/>
          </p:nvSpPr>
          <p:spPr>
            <a:xfrm>
              <a:off x="5322600" y="1895400"/>
              <a:ext cx="357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Autonomie/ indépend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26"/>
          <p:cNvGrpSpPr/>
          <p:nvPr/>
        </p:nvGrpSpPr>
        <p:grpSpPr>
          <a:xfrm>
            <a:off x="4849920" y="2644920"/>
            <a:ext cx="4730400" cy="459720"/>
            <a:chOff x="4849920" y="2644920"/>
            <a:chExt cx="4730400" cy="459720"/>
          </a:xfrm>
        </p:grpSpPr>
        <p:sp>
          <p:nvSpPr>
            <p:cNvPr id="323" name="Rectangle 27"/>
            <p:cNvSpPr/>
            <p:nvPr/>
          </p:nvSpPr>
          <p:spPr>
            <a:xfrm>
              <a:off x="484992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28"/>
            <p:cNvSpPr/>
            <p:nvPr/>
          </p:nvSpPr>
          <p:spPr>
            <a:xfrm>
              <a:off x="5278680" y="2644920"/>
              <a:ext cx="43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Mettre à profit ses compéte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Group 29"/>
          <p:cNvGrpSpPr/>
          <p:nvPr/>
        </p:nvGrpSpPr>
        <p:grpSpPr>
          <a:xfrm>
            <a:off x="4849920" y="3419640"/>
            <a:ext cx="3226320" cy="459720"/>
            <a:chOff x="4849920" y="3419640"/>
            <a:chExt cx="3226320" cy="459720"/>
          </a:xfrm>
        </p:grpSpPr>
        <p:sp>
          <p:nvSpPr>
            <p:cNvPr id="326" name="Rectangle 30"/>
            <p:cNvSpPr/>
            <p:nvPr/>
          </p:nvSpPr>
          <p:spPr>
            <a:xfrm>
              <a:off x="484992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31"/>
            <p:cNvSpPr/>
            <p:nvPr/>
          </p:nvSpPr>
          <p:spPr>
            <a:xfrm>
              <a:off x="5368680" y="3419640"/>
              <a:ext cx="270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iversité du travai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Group 32"/>
          <p:cNvGrpSpPr/>
          <p:nvPr/>
        </p:nvGrpSpPr>
        <p:grpSpPr>
          <a:xfrm>
            <a:off x="4849920" y="4194000"/>
            <a:ext cx="3858480" cy="825480"/>
            <a:chOff x="4849920" y="4194000"/>
            <a:chExt cx="3858480" cy="825480"/>
          </a:xfrm>
        </p:grpSpPr>
        <p:sp>
          <p:nvSpPr>
            <p:cNvPr id="329" name="Rectangle 33"/>
            <p:cNvSpPr/>
            <p:nvPr/>
          </p:nvSpPr>
          <p:spPr>
            <a:xfrm>
              <a:off x="484992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34"/>
            <p:cNvSpPr/>
            <p:nvPr/>
          </p:nvSpPr>
          <p:spPr>
            <a:xfrm>
              <a:off x="5330160" y="4194000"/>
              <a:ext cx="3378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ossibilité de croissanc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économiqu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35"/>
          <p:cNvGrpSpPr/>
          <p:nvPr/>
        </p:nvGrpSpPr>
        <p:grpSpPr>
          <a:xfrm>
            <a:off x="4838760" y="5019840"/>
            <a:ext cx="2916360" cy="459720"/>
            <a:chOff x="4838760" y="5019840"/>
            <a:chExt cx="2916360" cy="459720"/>
          </a:xfrm>
        </p:grpSpPr>
        <p:sp>
          <p:nvSpPr>
            <p:cNvPr id="332" name="Rectangle 36"/>
            <p:cNvSpPr/>
            <p:nvPr/>
          </p:nvSpPr>
          <p:spPr>
            <a:xfrm>
              <a:off x="483876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37"/>
            <p:cNvSpPr/>
            <p:nvPr/>
          </p:nvSpPr>
          <p:spPr>
            <a:xfrm>
              <a:off x="5376960" y="5019840"/>
              <a:ext cx="237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fits stimula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Group 38"/>
          <p:cNvGrpSpPr/>
          <p:nvPr/>
        </p:nvGrpSpPr>
        <p:grpSpPr>
          <a:xfrm>
            <a:off x="4832280" y="5918040"/>
            <a:ext cx="3697920" cy="459720"/>
            <a:chOff x="4832280" y="5918040"/>
            <a:chExt cx="3697920" cy="459720"/>
          </a:xfrm>
        </p:grpSpPr>
        <p:sp>
          <p:nvSpPr>
            <p:cNvPr id="335" name="Rectangle 39"/>
            <p:cNvSpPr/>
            <p:nvPr/>
          </p:nvSpPr>
          <p:spPr>
            <a:xfrm>
              <a:off x="4832280" y="60325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40"/>
            <p:cNvSpPr/>
            <p:nvPr/>
          </p:nvSpPr>
          <p:spPr>
            <a:xfrm>
              <a:off x="5325840" y="5918040"/>
              <a:ext cx="320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re son propre patr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2"/>
          <p:cNvSpPr/>
          <p:nvPr/>
        </p:nvSpPr>
        <p:spPr>
          <a:xfrm>
            <a:off x="896760" y="109548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Sala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Group 3"/>
          <p:cNvGrpSpPr/>
          <p:nvPr/>
        </p:nvGrpSpPr>
        <p:grpSpPr>
          <a:xfrm>
            <a:off x="252360" y="1946160"/>
            <a:ext cx="2754000" cy="459720"/>
            <a:chOff x="252360" y="1946160"/>
            <a:chExt cx="2754000" cy="459720"/>
          </a:xfrm>
        </p:grpSpPr>
        <p:sp>
          <p:nvSpPr>
            <p:cNvPr id="339" name="Rectangle 4"/>
            <p:cNvSpPr/>
            <p:nvPr/>
          </p:nvSpPr>
          <p:spPr>
            <a:xfrm>
              <a:off x="252360" y="20732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5"/>
            <p:cNvSpPr/>
            <p:nvPr/>
          </p:nvSpPr>
          <p:spPr>
            <a:xfrm>
              <a:off x="800280" y="1946160"/>
              <a:ext cx="220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Faibles revenu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6"/>
          <p:cNvGrpSpPr/>
          <p:nvPr/>
        </p:nvGrpSpPr>
        <p:grpSpPr>
          <a:xfrm>
            <a:off x="252360" y="2644920"/>
            <a:ext cx="1818360" cy="459720"/>
            <a:chOff x="252360" y="2644920"/>
            <a:chExt cx="1818360" cy="459720"/>
          </a:xfrm>
        </p:grpSpPr>
        <p:sp>
          <p:nvSpPr>
            <p:cNvPr id="342" name="Rectangle 7"/>
            <p:cNvSpPr/>
            <p:nvPr/>
          </p:nvSpPr>
          <p:spPr>
            <a:xfrm>
              <a:off x="25236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8"/>
            <p:cNvSpPr/>
            <p:nvPr/>
          </p:nvSpPr>
          <p:spPr>
            <a:xfrm>
              <a:off x="856800" y="2644920"/>
              <a:ext cx="121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outi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Group 9"/>
          <p:cNvGrpSpPr/>
          <p:nvPr/>
        </p:nvGrpSpPr>
        <p:grpSpPr>
          <a:xfrm>
            <a:off x="252360" y="3419640"/>
            <a:ext cx="3690720" cy="459720"/>
            <a:chOff x="252360" y="3419640"/>
            <a:chExt cx="3690720" cy="459720"/>
          </a:xfrm>
        </p:grpSpPr>
        <p:sp>
          <p:nvSpPr>
            <p:cNvPr id="345" name="Rectangle 10"/>
            <p:cNvSpPr/>
            <p:nvPr/>
          </p:nvSpPr>
          <p:spPr>
            <a:xfrm>
              <a:off x="25236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11"/>
            <p:cNvSpPr/>
            <p:nvPr/>
          </p:nvSpPr>
          <p:spPr>
            <a:xfrm>
              <a:off x="744840" y="3419640"/>
              <a:ext cx="31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Travail peu intéressa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Text Box 12"/>
          <p:cNvSpPr/>
          <p:nvPr/>
        </p:nvSpPr>
        <p:spPr>
          <a:xfrm>
            <a:off x="602640" y="282600"/>
            <a:ext cx="793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Times New Roman"/>
              </a:rPr>
              <a:t>Inconvenients des statuts salarié et entrepreuna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3"/>
          <p:cNvSpPr/>
          <p:nvPr/>
        </p:nvSpPr>
        <p:spPr>
          <a:xfrm>
            <a:off x="4561920" y="1095480"/>
            <a:ext cx="30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Entrepreneu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Group 14"/>
          <p:cNvGrpSpPr/>
          <p:nvPr/>
        </p:nvGrpSpPr>
        <p:grpSpPr>
          <a:xfrm>
            <a:off x="252360" y="4194000"/>
            <a:ext cx="2562480" cy="459720"/>
            <a:chOff x="252360" y="4194000"/>
            <a:chExt cx="2562480" cy="459720"/>
          </a:xfrm>
        </p:grpSpPr>
        <p:sp>
          <p:nvSpPr>
            <p:cNvPr id="350" name="Rectangle 15"/>
            <p:cNvSpPr/>
            <p:nvPr/>
          </p:nvSpPr>
          <p:spPr>
            <a:xfrm>
              <a:off x="25236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16"/>
            <p:cNvSpPr/>
            <p:nvPr/>
          </p:nvSpPr>
          <p:spPr>
            <a:xfrm>
              <a:off x="811440" y="4194000"/>
              <a:ext cx="200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mplois ra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Group 17"/>
          <p:cNvGrpSpPr/>
          <p:nvPr/>
        </p:nvGrpSpPr>
        <p:grpSpPr>
          <a:xfrm>
            <a:off x="252360" y="5019840"/>
            <a:ext cx="3665880" cy="825480"/>
            <a:chOff x="252360" y="5019840"/>
            <a:chExt cx="3665880" cy="825480"/>
          </a:xfrm>
        </p:grpSpPr>
        <p:sp>
          <p:nvSpPr>
            <p:cNvPr id="353" name="Rectangle 18"/>
            <p:cNvSpPr/>
            <p:nvPr/>
          </p:nvSpPr>
          <p:spPr>
            <a:xfrm>
              <a:off x="25236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19"/>
            <p:cNvSpPr/>
            <p:nvPr/>
          </p:nvSpPr>
          <p:spPr>
            <a:xfrm>
              <a:off x="745920" y="5019840"/>
              <a:ext cx="317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pendance qui limit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on potenti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Group 20"/>
          <p:cNvGrpSpPr/>
          <p:nvPr/>
        </p:nvGrpSpPr>
        <p:grpSpPr>
          <a:xfrm>
            <a:off x="263520" y="5832360"/>
            <a:ext cx="1474560" cy="459720"/>
            <a:chOff x="263520" y="5832360"/>
            <a:chExt cx="1474560" cy="459720"/>
          </a:xfrm>
        </p:grpSpPr>
        <p:sp>
          <p:nvSpPr>
            <p:cNvPr id="356" name="Rectangle 21"/>
            <p:cNvSpPr/>
            <p:nvPr/>
          </p:nvSpPr>
          <p:spPr>
            <a:xfrm>
              <a:off x="26352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22"/>
            <p:cNvSpPr/>
            <p:nvPr/>
          </p:nvSpPr>
          <p:spPr>
            <a:xfrm>
              <a:off x="888480" y="5832360"/>
              <a:ext cx="84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c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Group 23"/>
          <p:cNvGrpSpPr/>
          <p:nvPr/>
        </p:nvGrpSpPr>
        <p:grpSpPr>
          <a:xfrm>
            <a:off x="4654440" y="1895400"/>
            <a:ext cx="3180240" cy="459720"/>
            <a:chOff x="4654440" y="1895400"/>
            <a:chExt cx="3180240" cy="459720"/>
          </a:xfrm>
        </p:grpSpPr>
        <p:sp>
          <p:nvSpPr>
            <p:cNvPr id="359" name="Rectangle 24"/>
            <p:cNvSpPr/>
            <p:nvPr/>
          </p:nvSpPr>
          <p:spPr>
            <a:xfrm>
              <a:off x="4654440" y="20224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25"/>
            <p:cNvSpPr/>
            <p:nvPr/>
          </p:nvSpPr>
          <p:spPr>
            <a:xfrm>
              <a:off x="5178960" y="1895400"/>
              <a:ext cx="265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tress de l’inconn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26"/>
          <p:cNvGrpSpPr/>
          <p:nvPr/>
        </p:nvGrpSpPr>
        <p:grpSpPr>
          <a:xfrm>
            <a:off x="4654440" y="2644920"/>
            <a:ext cx="2043720" cy="459720"/>
            <a:chOff x="4654440" y="2644920"/>
            <a:chExt cx="2043720" cy="459720"/>
          </a:xfrm>
        </p:grpSpPr>
        <p:sp>
          <p:nvSpPr>
            <p:cNvPr id="362" name="Rectangle 27"/>
            <p:cNvSpPr/>
            <p:nvPr/>
          </p:nvSpPr>
          <p:spPr>
            <a:xfrm>
              <a:off x="465444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28"/>
            <p:cNvSpPr/>
            <p:nvPr/>
          </p:nvSpPr>
          <p:spPr>
            <a:xfrm>
              <a:off x="5244840" y="2644920"/>
              <a:ext cx="145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Isol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29"/>
          <p:cNvGrpSpPr/>
          <p:nvPr/>
        </p:nvGrpSpPr>
        <p:grpSpPr>
          <a:xfrm>
            <a:off x="4654440" y="3419640"/>
            <a:ext cx="4290120" cy="459720"/>
            <a:chOff x="4654440" y="3419640"/>
            <a:chExt cx="4290120" cy="459720"/>
          </a:xfrm>
        </p:grpSpPr>
        <p:sp>
          <p:nvSpPr>
            <p:cNvPr id="365" name="Rectangle 30"/>
            <p:cNvSpPr/>
            <p:nvPr/>
          </p:nvSpPr>
          <p:spPr>
            <a:xfrm>
              <a:off x="465444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Box 31"/>
            <p:cNvSpPr/>
            <p:nvPr/>
          </p:nvSpPr>
          <p:spPr>
            <a:xfrm>
              <a:off x="5110920" y="3419640"/>
              <a:ext cx="383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isque de pertes financiè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Group 32"/>
          <p:cNvGrpSpPr/>
          <p:nvPr/>
        </p:nvGrpSpPr>
        <p:grpSpPr>
          <a:xfrm>
            <a:off x="4654440" y="4194000"/>
            <a:ext cx="4498560" cy="459720"/>
            <a:chOff x="4654440" y="4194000"/>
            <a:chExt cx="4498560" cy="459720"/>
          </a:xfrm>
        </p:grpSpPr>
        <p:sp>
          <p:nvSpPr>
            <p:cNvPr id="368" name="Rectangle 33"/>
            <p:cNvSpPr/>
            <p:nvPr/>
          </p:nvSpPr>
          <p:spPr>
            <a:xfrm>
              <a:off x="465444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34"/>
            <p:cNvSpPr/>
            <p:nvPr/>
          </p:nvSpPr>
          <p:spPr>
            <a:xfrm>
              <a:off x="5099760" y="4194000"/>
              <a:ext cx="405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Nombreuses heures de travai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Group 35"/>
          <p:cNvGrpSpPr/>
          <p:nvPr/>
        </p:nvGrpSpPr>
        <p:grpSpPr>
          <a:xfrm>
            <a:off x="4643280" y="5019840"/>
            <a:ext cx="2714760" cy="459720"/>
            <a:chOff x="4643280" y="5019840"/>
            <a:chExt cx="2714760" cy="459720"/>
          </a:xfrm>
        </p:grpSpPr>
        <p:sp>
          <p:nvSpPr>
            <p:cNvPr id="371" name="Rectangle 36"/>
            <p:cNvSpPr/>
            <p:nvPr/>
          </p:nvSpPr>
          <p:spPr>
            <a:xfrm>
              <a:off x="464328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37"/>
            <p:cNvSpPr/>
            <p:nvPr/>
          </p:nvSpPr>
          <p:spPr>
            <a:xfrm>
              <a:off x="5193000" y="5019840"/>
              <a:ext cx="21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 motiver seu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Group 38"/>
          <p:cNvGrpSpPr/>
          <p:nvPr/>
        </p:nvGrpSpPr>
        <p:grpSpPr>
          <a:xfrm>
            <a:off x="4667400" y="5807160"/>
            <a:ext cx="1473120" cy="484920"/>
            <a:chOff x="4667400" y="5807160"/>
            <a:chExt cx="1473120" cy="484920"/>
          </a:xfrm>
        </p:grpSpPr>
        <p:grpSp>
          <p:nvGrpSpPr>
            <p:cNvPr id="374" name="Group 39"/>
            <p:cNvGrpSpPr/>
            <p:nvPr/>
          </p:nvGrpSpPr>
          <p:grpSpPr>
            <a:xfrm>
              <a:off x="4667400" y="5807160"/>
              <a:ext cx="832680" cy="457200"/>
              <a:chOff x="4667400" y="5807160"/>
              <a:chExt cx="832680" cy="457200"/>
            </a:xfrm>
          </p:grpSpPr>
          <p:sp>
            <p:nvSpPr>
              <p:cNvPr id="375" name="Rectangle 40"/>
              <p:cNvSpPr/>
              <p:nvPr/>
            </p:nvSpPr>
            <p:spPr>
              <a:xfrm>
                <a:off x="4667400" y="5921640"/>
                <a:ext cx="228240" cy="228600"/>
              </a:xfrm>
              <a:prstGeom prst="rect">
                <a:avLst/>
              </a:prstGeom>
              <a:solidFill>
                <a:srgbClr val="696464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13500000" blurRad="0" rotWithShape="0">
                  <a:srgbClr val="e9e5d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Text Box 41"/>
              <p:cNvSpPr/>
              <p:nvPr/>
            </p:nvSpPr>
            <p:spPr>
              <a:xfrm>
                <a:off x="5337000" y="5807160"/>
                <a:ext cx="1630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Rectangle 42"/>
            <p:cNvSpPr/>
            <p:nvPr/>
          </p:nvSpPr>
          <p:spPr>
            <a:xfrm>
              <a:off x="466740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43"/>
            <p:cNvSpPr/>
            <p:nvPr/>
          </p:nvSpPr>
          <p:spPr>
            <a:xfrm>
              <a:off x="5290920" y="5832360"/>
              <a:ext cx="84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c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Group 3"/>
          <p:cNvGrpSpPr/>
          <p:nvPr/>
        </p:nvGrpSpPr>
        <p:grpSpPr>
          <a:xfrm>
            <a:off x="423720" y="1673280"/>
            <a:ext cx="6427080" cy="520560"/>
            <a:chOff x="423720" y="1673280"/>
            <a:chExt cx="6427080" cy="520560"/>
          </a:xfrm>
        </p:grpSpPr>
        <p:sp>
          <p:nvSpPr>
            <p:cNvPr id="380" name="AutoShape 4"/>
            <p:cNvSpPr/>
            <p:nvPr/>
          </p:nvSpPr>
          <p:spPr>
            <a:xfrm>
              <a:off x="423720" y="1805040"/>
              <a:ext cx="527760" cy="293760"/>
            </a:xfrm>
            <a:prstGeom prst="rightArrow">
              <a:avLst>
                <a:gd name="adj1" fmla="val 50000"/>
                <a:gd name="adj2" fmla="val 89836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5"/>
            <p:cNvSpPr/>
            <p:nvPr/>
          </p:nvSpPr>
          <p:spPr>
            <a:xfrm>
              <a:off x="999360" y="1673280"/>
              <a:ext cx="585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Idée de projet :  idée en relation avec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6"/>
          <p:cNvGrpSpPr/>
          <p:nvPr/>
        </p:nvGrpSpPr>
        <p:grpSpPr>
          <a:xfrm>
            <a:off x="1268280" y="2708280"/>
            <a:ext cx="3898080" cy="459720"/>
            <a:chOff x="1268280" y="2708280"/>
            <a:chExt cx="3898080" cy="459720"/>
          </a:xfrm>
        </p:grpSpPr>
        <p:sp>
          <p:nvSpPr>
            <p:cNvPr id="383" name="Rectangle 7"/>
            <p:cNvSpPr/>
            <p:nvPr/>
          </p:nvSpPr>
          <p:spPr>
            <a:xfrm>
              <a:off x="1268280" y="28353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8"/>
            <p:cNvSpPr/>
            <p:nvPr/>
          </p:nvSpPr>
          <p:spPr>
            <a:xfrm>
              <a:off x="1748520" y="2708280"/>
              <a:ext cx="341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s propres compéte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Group 9"/>
          <p:cNvGrpSpPr/>
          <p:nvPr/>
        </p:nvGrpSpPr>
        <p:grpSpPr>
          <a:xfrm>
            <a:off x="1268280" y="3444840"/>
            <a:ext cx="6899760" cy="459720"/>
            <a:chOff x="1268280" y="3444840"/>
            <a:chExt cx="6899760" cy="459720"/>
          </a:xfrm>
        </p:grpSpPr>
        <p:sp>
          <p:nvSpPr>
            <p:cNvPr id="386" name="Rectangle 10"/>
            <p:cNvSpPr/>
            <p:nvPr/>
          </p:nvSpPr>
          <p:spPr>
            <a:xfrm>
              <a:off x="1268280" y="3558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11"/>
            <p:cNvSpPr/>
            <p:nvPr/>
          </p:nvSpPr>
          <p:spPr>
            <a:xfrm>
              <a:off x="1569600" y="3444840"/>
              <a:ext cx="659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s besoins, ceux de sa famille ou de ses relation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12"/>
          <p:cNvGrpSpPr/>
          <p:nvPr/>
        </p:nvGrpSpPr>
        <p:grpSpPr>
          <a:xfrm>
            <a:off x="1246320" y="4956120"/>
            <a:ext cx="6274440" cy="459720"/>
            <a:chOff x="1246320" y="4956120"/>
            <a:chExt cx="6274440" cy="459720"/>
          </a:xfrm>
        </p:grpSpPr>
        <p:sp>
          <p:nvSpPr>
            <p:cNvPr id="389" name="Rectangle 13"/>
            <p:cNvSpPr/>
            <p:nvPr/>
          </p:nvSpPr>
          <p:spPr>
            <a:xfrm>
              <a:off x="1246320" y="50832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14"/>
            <p:cNvSpPr/>
            <p:nvPr/>
          </p:nvSpPr>
          <p:spPr>
            <a:xfrm>
              <a:off x="1586880" y="4956120"/>
              <a:ext cx="593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es produits, des services, de son entourag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15"/>
          <p:cNvGrpSpPr/>
          <p:nvPr/>
        </p:nvGrpSpPr>
        <p:grpSpPr>
          <a:xfrm>
            <a:off x="1279440" y="4168800"/>
            <a:ext cx="8172000" cy="459720"/>
            <a:chOff x="1279440" y="4168800"/>
            <a:chExt cx="8172000" cy="459720"/>
          </a:xfrm>
        </p:grpSpPr>
        <p:sp>
          <p:nvSpPr>
            <p:cNvPr id="392" name="Rectangle 16"/>
            <p:cNvSpPr/>
            <p:nvPr/>
          </p:nvSpPr>
          <p:spPr>
            <a:xfrm>
              <a:off x="1279440" y="42829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 Box 17"/>
            <p:cNvSpPr/>
            <p:nvPr/>
          </p:nvSpPr>
          <p:spPr>
            <a:xfrm>
              <a:off x="1505880" y="4168800"/>
              <a:ext cx="794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es sources d’informations ( journaux, télé, Internet, etc…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2"/>
          <p:cNvSpPr/>
          <p:nvPr/>
        </p:nvSpPr>
        <p:spPr>
          <a:xfrm>
            <a:off x="3473280" y="4158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Group 3"/>
          <p:cNvGrpSpPr/>
          <p:nvPr/>
        </p:nvGrpSpPr>
        <p:grpSpPr>
          <a:xfrm>
            <a:off x="423720" y="1673280"/>
            <a:ext cx="6718680" cy="520560"/>
            <a:chOff x="423720" y="1673280"/>
            <a:chExt cx="6718680" cy="520560"/>
          </a:xfrm>
        </p:grpSpPr>
        <p:sp>
          <p:nvSpPr>
            <p:cNvPr id="396" name="AutoShape 4"/>
            <p:cNvSpPr/>
            <p:nvPr/>
          </p:nvSpPr>
          <p:spPr>
            <a:xfrm>
              <a:off x="423720" y="180504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5"/>
            <p:cNvSpPr/>
            <p:nvPr/>
          </p:nvSpPr>
          <p:spPr>
            <a:xfrm>
              <a:off x="978480" y="1673280"/>
              <a:ext cx="616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Occasion d’affaire : possibilite concrèt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Group 6"/>
          <p:cNvGrpSpPr/>
          <p:nvPr/>
        </p:nvGrpSpPr>
        <p:grpSpPr>
          <a:xfrm>
            <a:off x="1911240" y="2581200"/>
            <a:ext cx="4194720" cy="459720"/>
            <a:chOff x="1911240" y="2581200"/>
            <a:chExt cx="4194720" cy="459720"/>
          </a:xfrm>
        </p:grpSpPr>
        <p:sp>
          <p:nvSpPr>
            <p:cNvPr id="399" name="Rectangle 7"/>
            <p:cNvSpPr/>
            <p:nvPr/>
          </p:nvSpPr>
          <p:spPr>
            <a:xfrm>
              <a:off x="1911240" y="27082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8"/>
            <p:cNvSpPr/>
            <p:nvPr/>
          </p:nvSpPr>
          <p:spPr>
            <a:xfrm>
              <a:off x="2371320" y="2581200"/>
              <a:ext cx="373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Qui peut se commercialis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Group 9"/>
          <p:cNvGrpSpPr/>
          <p:nvPr/>
        </p:nvGrpSpPr>
        <p:grpSpPr>
          <a:xfrm>
            <a:off x="1968480" y="4702320"/>
            <a:ext cx="3162600" cy="459720"/>
            <a:chOff x="1968480" y="4702320"/>
            <a:chExt cx="3162600" cy="459720"/>
          </a:xfrm>
        </p:grpSpPr>
        <p:sp>
          <p:nvSpPr>
            <p:cNvPr id="402" name="Rectangle 10"/>
            <p:cNvSpPr/>
            <p:nvPr/>
          </p:nvSpPr>
          <p:spPr>
            <a:xfrm>
              <a:off x="1968480" y="48164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11"/>
            <p:cNvSpPr/>
            <p:nvPr/>
          </p:nvSpPr>
          <p:spPr>
            <a:xfrm>
              <a:off x="2490480" y="4702320"/>
              <a:ext cx="26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Qui doit permett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Text Box 12"/>
          <p:cNvSpPr/>
          <p:nvPr/>
        </p:nvSpPr>
        <p:spPr>
          <a:xfrm>
            <a:off x="2247480" y="3354480"/>
            <a:ext cx="47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à un prix acceptable pour le consommate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3"/>
          <p:cNvSpPr/>
          <p:nvPr/>
        </p:nvSpPr>
        <p:spPr>
          <a:xfrm>
            <a:off x="2300400" y="3811680"/>
            <a:ext cx="385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à un prix rentable pour le vende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4"/>
          <p:cNvSpPr/>
          <p:nvPr/>
        </p:nvSpPr>
        <p:spPr>
          <a:xfrm>
            <a:off x="2354040" y="5386320"/>
            <a:ext cx="292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 résoudre un problè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5"/>
          <p:cNvSpPr/>
          <p:nvPr/>
        </p:nvSpPr>
        <p:spPr>
          <a:xfrm>
            <a:off x="2363040" y="5843520"/>
            <a:ext cx="27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 répondre à un beso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2"/>
          <p:cNvSpPr/>
          <p:nvPr/>
        </p:nvSpPr>
        <p:spPr>
          <a:xfrm>
            <a:off x="1435320" y="434880"/>
            <a:ext cx="657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Times New Roman"/>
              </a:rPr>
              <a:t>Elaboration du plan d’affai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3"/>
          <p:cNvGrpSpPr/>
          <p:nvPr/>
        </p:nvGrpSpPr>
        <p:grpSpPr>
          <a:xfrm>
            <a:off x="677880" y="2028960"/>
            <a:ext cx="3573000" cy="1373760"/>
            <a:chOff x="677880" y="2028960"/>
            <a:chExt cx="3573000" cy="1373760"/>
          </a:xfrm>
        </p:grpSpPr>
        <p:sp>
          <p:nvSpPr>
            <p:cNvPr id="410" name="AutoShape 4"/>
            <p:cNvSpPr/>
            <p:nvPr/>
          </p:nvSpPr>
          <p:spPr>
            <a:xfrm>
              <a:off x="677880" y="216072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 Box 5"/>
            <p:cNvSpPr/>
            <p:nvPr/>
          </p:nvSpPr>
          <p:spPr>
            <a:xfrm>
              <a:off x="1592280" y="2028960"/>
              <a:ext cx="26586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techniqu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juridiqu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Group 6"/>
          <p:cNvGrpSpPr/>
          <p:nvPr/>
        </p:nvGrpSpPr>
        <p:grpSpPr>
          <a:xfrm>
            <a:off x="611280" y="3789360"/>
            <a:ext cx="3924720" cy="520560"/>
            <a:chOff x="611280" y="3789360"/>
            <a:chExt cx="3924720" cy="520560"/>
          </a:xfrm>
        </p:grpSpPr>
        <p:sp>
          <p:nvSpPr>
            <p:cNvPr id="413" name="AutoShape 7"/>
            <p:cNvSpPr/>
            <p:nvPr/>
          </p:nvSpPr>
          <p:spPr>
            <a:xfrm>
              <a:off x="611280" y="3921120"/>
              <a:ext cx="527760" cy="293760"/>
            </a:xfrm>
            <a:prstGeom prst="rightArrow">
              <a:avLst>
                <a:gd name="adj1" fmla="val 50000"/>
                <a:gd name="adj2" fmla="val 89836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8"/>
            <p:cNvSpPr/>
            <p:nvPr/>
          </p:nvSpPr>
          <p:spPr>
            <a:xfrm>
              <a:off x="1334880" y="3789360"/>
              <a:ext cx="320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de marke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Group 9"/>
          <p:cNvGrpSpPr/>
          <p:nvPr/>
        </p:nvGrpSpPr>
        <p:grpSpPr>
          <a:xfrm>
            <a:off x="684360" y="4581360"/>
            <a:ext cx="3447360" cy="520560"/>
            <a:chOff x="684360" y="4581360"/>
            <a:chExt cx="3447360" cy="520560"/>
          </a:xfrm>
        </p:grpSpPr>
        <p:sp>
          <p:nvSpPr>
            <p:cNvPr id="416" name="AutoShape 10"/>
            <p:cNvSpPr/>
            <p:nvPr/>
          </p:nvSpPr>
          <p:spPr>
            <a:xfrm>
              <a:off x="684360" y="4713120"/>
              <a:ext cx="528120" cy="293760"/>
            </a:xfrm>
            <a:prstGeom prst="rightArrow">
              <a:avLst>
                <a:gd name="adj1" fmla="val 50000"/>
                <a:gd name="adj2" fmla="val 89898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11"/>
            <p:cNvSpPr/>
            <p:nvPr/>
          </p:nvSpPr>
          <p:spPr>
            <a:xfrm>
              <a:off x="1434960" y="4581360"/>
              <a:ext cx="269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financiè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Text Box 12"/>
          <p:cNvSpPr/>
          <p:nvPr/>
        </p:nvSpPr>
        <p:spPr>
          <a:xfrm>
            <a:off x="4867200" y="50450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161928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title"/>
          </p:nvPr>
        </p:nvSpPr>
        <p:spPr>
          <a:xfrm>
            <a:off x="97164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Franklin Gothic Book"/>
              </a:rPr>
              <a:t>Qu’est-ce qu’être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11:23:26Z</dcterms:created>
  <dc:creator>Benchekara</dc:creator>
  <dc:description/>
  <dc:language>en-US</dc:language>
  <cp:lastModifiedBy>bureau65</cp:lastModifiedBy>
  <dcterms:modified xsi:type="dcterms:W3CDTF">2016-12-09T15:36:16Z</dcterms:modified>
  <cp:revision>11</cp:revision>
  <dc:subject/>
  <dc:title>Diapositive 1</dc:title>
</cp:coreProperties>
</file>